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4.jpeg" ContentType="image/jpe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12960" y="-46440"/>
            <a:ext cx="3095640" cy="4986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0" bIns="0" anchor="t">
            <a:noAutofit/>
          </a:bodyPr>
          <a:p>
            <a:pPr marL="216000" indent="0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4019040" y="-46440"/>
            <a:ext cx="3095640" cy="4986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  <a:defRPr b="0" i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2"/>
          </p:nvPr>
        </p:nvSpPr>
        <p:spPr>
          <a:xfrm>
            <a:off x="-12960" y="8507160"/>
            <a:ext cx="3095640" cy="50148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  <a:defRPr b="0" i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3"/>
          </p:nvPr>
        </p:nvSpPr>
        <p:spPr>
          <a:xfrm>
            <a:off x="4019040" y="8507160"/>
            <a:ext cx="3095640" cy="50148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  <a:defRPr b="0" i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fld id="{800AF7E0-BDC6-4AD3-8025-5F595066957B}" type="slidenum"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944280" y="4276800"/>
            <a:ext cx="5213160" cy="40464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Img"/>
          </p:nvPr>
        </p:nvSpPr>
        <p:spPr>
          <a:xfrm>
            <a:off x="1302840" y="678960"/>
            <a:ext cx="4496040" cy="337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 txBox="1"/>
          <p:nvPr/>
        </p:nvSpPr>
        <p:spPr>
          <a:xfrm>
            <a:off x="-12960" y="8507160"/>
            <a:ext cx="3095640" cy="50148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-12960" y="-46440"/>
            <a:ext cx="3095640" cy="4986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4019040" y="-46440"/>
            <a:ext cx="3095640" cy="4986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305000" y="682560"/>
            <a:ext cx="4491000" cy="33688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2149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8127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492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96920" y="10663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50840" y="10663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8127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96920" y="38127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50840" y="38127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3000" y="0"/>
            <a:ext cx="7835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492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3000" y="38127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43000" y="38127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4300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492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96920" y="10663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50840" y="10663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43000" y="38127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96920" y="38127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50840" y="38127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0"/>
            <a:ext cx="7835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492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492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8127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250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39760" indent="-333360"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3" marL="1601640" indent="-347400"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4" marL="2063880" indent="-347760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5" marL="2063880" indent="-3477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6" marL="2063880" indent="-3477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283440" y="6364440"/>
            <a:ext cx="2631960" cy="3031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387240" y="6643080"/>
            <a:ext cx="25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 Not to be used without permiss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43000" y="914400"/>
            <a:ext cx="7594560" cy="0"/>
          </a:xfrm>
          <a:prstGeom prst="line">
            <a:avLst/>
          </a:prstGeom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01120" y="34920"/>
            <a:ext cx="384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E522-E5BD-4CB9-8EC3-DE18DEE9CE9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255680" y="6454800"/>
            <a:ext cx="1555920" cy="4032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0"/>
            <a:ext cx="998640" cy="6858000"/>
            <a:chOff x="0" y="0"/>
            <a:chExt cx="998640" cy="6858000"/>
          </a:xfrm>
        </p:grpSpPr>
        <p:pic>
          <p:nvPicPr>
            <p:cNvPr id="8" name="healthcare1" descr=""/>
            <p:cNvPicPr/>
            <p:nvPr/>
          </p:nvPicPr>
          <p:blipFill>
            <a:blip r:embed="rId4"/>
            <a:stretch/>
          </p:blipFill>
          <p:spPr>
            <a:xfrm>
              <a:off x="0" y="2743200"/>
              <a:ext cx="9961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healthcare2" descr=""/>
            <p:cNvPicPr/>
            <p:nvPr/>
          </p:nvPicPr>
          <p:blipFill>
            <a:blip r:embed="rId5"/>
            <a:stretch/>
          </p:blipFill>
          <p:spPr>
            <a:xfrm>
              <a:off x="0" y="1371600"/>
              <a:ext cx="99612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healthcare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9864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healthcare3" descr=""/>
            <p:cNvPicPr/>
            <p:nvPr/>
          </p:nvPicPr>
          <p:blipFill>
            <a:blip r:embed="rId7"/>
            <a:stretch/>
          </p:blipFill>
          <p:spPr>
            <a:xfrm>
              <a:off x="0" y="4114800"/>
              <a:ext cx="99864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healthcare2" descr=""/>
            <p:cNvPicPr/>
            <p:nvPr/>
          </p:nvPicPr>
          <p:blipFill>
            <a:blip r:embed="rId8"/>
            <a:stretch/>
          </p:blipFill>
          <p:spPr>
            <a:xfrm>
              <a:off x="0" y="5483160"/>
              <a:ext cx="996120" cy="1374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9240" y="495000"/>
            <a:ext cx="750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40600" y="6381720"/>
            <a:ext cx="2631960" cy="30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73240" y="1665360"/>
            <a:ext cx="7594560" cy="0"/>
          </a:xfrm>
          <a:prstGeom prst="line">
            <a:avLst/>
          </a:prstGeom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1143000" cy="6858000"/>
            <a:chOff x="0" y="0"/>
            <a:chExt cx="1143000" cy="6858000"/>
          </a:xfrm>
        </p:grpSpPr>
        <p:pic>
          <p:nvPicPr>
            <p:cNvPr id="53" name="healthcare1" descr=""/>
            <p:cNvPicPr/>
            <p:nvPr/>
          </p:nvPicPr>
          <p:blipFill>
            <a:blip r:embed="rId3"/>
            <a:stretch/>
          </p:blipFill>
          <p:spPr>
            <a:xfrm>
              <a:off x="0" y="2743200"/>
              <a:ext cx="11401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healthcare2" descr="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114012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healthcare3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14300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healthcare3" descr=""/>
            <p:cNvPicPr/>
            <p:nvPr/>
          </p:nvPicPr>
          <p:blipFill>
            <a:blip r:embed="rId6"/>
            <a:stretch/>
          </p:blipFill>
          <p:spPr>
            <a:xfrm>
              <a:off x="0" y="4114800"/>
              <a:ext cx="114300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healthcare2" descr=""/>
            <p:cNvPicPr/>
            <p:nvPr/>
          </p:nvPicPr>
          <p:blipFill>
            <a:blip r:embed="rId7"/>
            <a:stretch/>
          </p:blipFill>
          <p:spPr>
            <a:xfrm>
              <a:off x="0" y="5483160"/>
              <a:ext cx="1140120" cy="137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1271520" y="6426360"/>
            <a:ext cx="1555920" cy="403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37"/>
              </a:spcBef>
              <a:buClr>
                <a:srgbClr val="3333cc"/>
              </a:buClr>
              <a:buSzPct val="75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spcBef>
                <a:spcPts val="349"/>
              </a:spcBef>
              <a:buClr>
                <a:srgbClr val="3333cc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4.png"/><Relationship Id="rId14" Type="http://schemas.openxmlformats.org/officeDocument/2006/relationships/image" Target="../media/image17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9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09600" y="-360"/>
            <a:ext cx="7934400" cy="16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f00"/>
                </a:solidFill>
                <a:latin typeface="Arial"/>
              </a:rPr>
              <a:t>Decision support technologies/tools (DSTs):</a:t>
            </a:r>
            <a:br>
              <a:rPr sz="3600"/>
            </a:br>
            <a:r>
              <a:rPr b="1" i="1" lang="en-US" sz="2800" spc="-1" strike="noStrike">
                <a:solidFill>
                  <a:srgbClr val="ff7f00"/>
                </a:solidFill>
                <a:latin typeface="Arial"/>
              </a:rPr>
              <a:t>transforming data into information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01760" y="1782360"/>
            <a:ext cx="7313760" cy="349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9933"/>
                </a:solidFill>
                <a:latin typeface="Arial"/>
              </a:rPr>
              <a:t>Presentation t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Executive Breakfast Information Technology Briefing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9933"/>
                </a:solidFill>
                <a:latin typeface="Arial"/>
              </a:rPr>
              <a:t>sponsored by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ata General and PricewaterhouseCoopers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with Massachusetts Health Data Consortium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9933"/>
                </a:solidFill>
                <a:latin typeface="Arial"/>
              </a:rPr>
              <a:t>by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eter G. Goldschmidt, MD, DrPH, DM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esident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edical Care Management Corporation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&amp; World Development Group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Bethesda, Maryland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9933"/>
                </a:solidFill>
                <a:latin typeface="Arial"/>
              </a:rPr>
              <a:t>Westboro, MA, January 13, 1999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Data collected versus data needed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295280" y="1219320"/>
            <a:ext cx="7543800" cy="5104800"/>
            <a:chOff x="1295280" y="1219320"/>
            <a:chExt cx="7543800" cy="5104800"/>
          </a:xfrm>
        </p:grpSpPr>
        <p:sp>
          <p:nvSpPr>
            <p:cNvPr id="344" name=""/>
            <p:cNvSpPr/>
            <p:nvPr/>
          </p:nvSpPr>
          <p:spPr>
            <a:xfrm rot="16200000">
              <a:off x="1060920" y="4653720"/>
              <a:ext cx="836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976680" y="5544360"/>
              <a:ext cx="106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67480" y="22096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67480" y="3809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reho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67480" y="51055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91120" y="1219320"/>
              <a:ext cx="127764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Need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on’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95480" y="1219320"/>
              <a:ext cx="1278000" cy="3808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Need/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86400" y="1219320"/>
              <a:ext cx="12780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on’t need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05720" y="1219320"/>
              <a:ext cx="1277640" cy="380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on’t need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on’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828800" y="1828800"/>
              <a:ext cx="5638680" cy="4495320"/>
              <a:chOff x="1828800" y="1828800"/>
              <a:chExt cx="5638680" cy="4495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828800" y="1828800"/>
                <a:ext cx="5562720" cy="663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8800" y="2491920"/>
                <a:ext cx="5556240" cy="6631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28800" y="3155400"/>
                <a:ext cx="5556240" cy="663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28800" y="3818520"/>
                <a:ext cx="2820960" cy="663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28800" y="4482000"/>
                <a:ext cx="2820960" cy="2210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28800" y="4703040"/>
                <a:ext cx="2820960" cy="221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28800" y="4924080"/>
                <a:ext cx="2820960" cy="2210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28800" y="5145120"/>
                <a:ext cx="2820960" cy="221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28800" y="5366520"/>
                <a:ext cx="2820960" cy="22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28800" y="5587560"/>
                <a:ext cx="2820960" cy="2210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28800" y="5808600"/>
                <a:ext cx="2820960" cy="22104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28800" y="6029640"/>
                <a:ext cx="2820960" cy="2210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48320" y="3449880"/>
                <a:ext cx="2743200" cy="28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27600" y="4039560"/>
                <a:ext cx="2563920" cy="1962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827600" y="4187160"/>
                <a:ext cx="2563920" cy="27000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827600" y="4408200"/>
                <a:ext cx="2563920" cy="2700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27600" y="4629240"/>
                <a:ext cx="2563920" cy="16214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67560" y="4703040"/>
                <a:ext cx="1623960" cy="1547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3600" y="4850280"/>
                <a:ext cx="144792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3600" y="5071320"/>
                <a:ext cx="1447920" cy="5893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27600" y="3598920"/>
                <a:ext cx="256392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27600" y="3819960"/>
                <a:ext cx="2563920" cy="2239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5661000"/>
                <a:ext cx="1447920" cy="1476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3600" y="5808600"/>
                <a:ext cx="1447920" cy="14724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5955840"/>
                <a:ext cx="1447920" cy="147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43600" y="6103080"/>
                <a:ext cx="1447920" cy="1476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48320" y="6250680"/>
                <a:ext cx="152280" cy="7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91320" y="6250680"/>
                <a:ext cx="152280" cy="7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6200000">
                <a:off x="7355880" y="4738320"/>
                <a:ext cx="14724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6200000">
                <a:off x="7355520" y="3485520"/>
                <a:ext cx="14760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1295280" y="1219320"/>
              <a:ext cx="1600200" cy="380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atus of dat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7160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5257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71600" y="6248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71600" y="1828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984960" y="2900880"/>
              <a:ext cx="98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23880" y="1828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3880" y="35053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5181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2388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Ensuring data quality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t source - preproduction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 datamarts - intraproduction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 use - postproduc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Ensuring data quality (cont.)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t source — preproduc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tandard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dits, etc, eg, to identify invali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incentive, means to collect goo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 datamarts — intraproduc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ub data to create analytic-ready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ster missing, incorr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obust analytic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Ensuring data quality (cont.)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 use — postproduc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 data quality to identify questionable, incorr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roblems' root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root cases to greatest extent prac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 analytic model to allow for missing, incorr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Concepts, definitions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ata mining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ecision support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Expert system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3976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Data mining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Data analysis with attitud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Broad term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Huge volumes of dat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Uses software to identify patterns, search for correlation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ay involve algorithms, artificial intelligenc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ata miner specifies questions, who may be decision-maker who uses answer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pen to errors of inferenc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isn't cau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Decision support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Deals with complexity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Broad term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pecified, usually large volumes of dat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Uses software to assist decision-maker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quires defining decision to be supported; developing, validating analytic models, algorithms, etc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oftware predetermines focus; decision-maker uses result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cludes expert systems, other forms of artificial intelligenc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pen to errors of ac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 causes doesn't necessarily produce desired 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Expert system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Type of artificial intelligenc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Narrow term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Uses software to solve problem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eparates knowledge base from inference engin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quires knowledge engineering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perates in narrow domain; produces specific decision indicator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n be highly effective; can out-perform human expert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ly in narrow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Effective Decision Support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352520" y="1371600"/>
            <a:ext cx="7524360" cy="4343400"/>
            <a:chOff x="1352520" y="1371600"/>
            <a:chExt cx="7524360" cy="4343400"/>
          </a:xfrm>
        </p:grpSpPr>
        <p:sp>
          <p:nvSpPr>
            <p:cNvPr id="410" name=""/>
            <p:cNvSpPr/>
            <p:nvPr/>
          </p:nvSpPr>
          <p:spPr>
            <a:xfrm>
              <a:off x="1352520" y="1371600"/>
              <a:ext cx="2170440" cy="4343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areho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57120" y="1371600"/>
              <a:ext cx="2315160" cy="4343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r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06440" y="1371600"/>
              <a:ext cx="2170440" cy="43434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cis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74200" y="1981080"/>
              <a:ext cx="1953360" cy="1447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74200" y="3962520"/>
              <a:ext cx="1953360" cy="1447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0836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62104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22960" y="3657600"/>
              <a:ext cx="433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72280" y="3657600"/>
              <a:ext cx="433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Health care decision support </a:t>
            </a:r>
            <a:br>
              <a:rPr sz="2800"/>
            </a:b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linical — focus on individual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 care, eg, diagnosis,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 support, eg, reading histopathology slides, interpreting EC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management, eg, identifying non-conformance with practice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dministration — focus on population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ing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high risk enroll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Network, system — focus on geography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ing clinics, services to serve specific enrollee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Medical Care Management Corporation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ver 150 clients, including some of nation's largest MCO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ver 500 clinical experts (over 100 institutions); all domains of medicin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Expert reviews of cases' medical fact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External appeals of medical, administrative issu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ssessment of quality of care issu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view/ development of clinical practice polici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Levels of decision support</a:t>
            </a:r>
            <a:br>
              <a:rPr sz="2800"/>
            </a:b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0 — Warehouse dat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1 — Drill/display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2 — Extract information from dat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3 — Interpret informa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4 — Indicate ac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5 — Govern proces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Physician profiling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eparation of longitudinal or cross-sectional  statistical summary of physician-specific data to assess performanc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erformance measures of most interest: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ne of most widely desired/used DST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Physician profiling (cont.)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ssues/barriers includ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sufficient, uniform data in one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ing/defining meaningful variables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 of aggregating data into meaningful units for analysis, eg, 'episodes'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of case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ng results of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ng actionabl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Physician profiling by the level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1 — drill/display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various data by provider; permit drill-down by case, service, charg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2 — extract informa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risk-adjustment, constructs episodes of care to gauge performanc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3 — interpret informa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roviders with aberrant resource utilization, most cost-effective provider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Physician profiling by the level (cont.)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4 — indicate ac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viders with aberrant resource use, identify likely causes, potentially successful improvement action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vel-5 — govern proces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vider who continues to exhibit aberrant resource utilization, terminate from network, notify patients/enrollees, update network provider data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Information Process Model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90720" y="1214280"/>
            <a:ext cx="7956360" cy="4757760"/>
            <a:chOff x="990720" y="1214280"/>
            <a:chExt cx="7956360" cy="4757760"/>
          </a:xfrm>
        </p:grpSpPr>
        <p:sp>
          <p:nvSpPr>
            <p:cNvPr id="433" name=""/>
            <p:cNvSpPr/>
            <p:nvPr/>
          </p:nvSpPr>
          <p:spPr>
            <a:xfrm rot="16200000">
              <a:off x="187560" y="3235680"/>
              <a:ext cx="4544640" cy="501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6200000">
              <a:off x="6208560" y="3235680"/>
              <a:ext cx="4544640" cy="501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24240" y="5262120"/>
              <a:ext cx="5949000" cy="496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Global 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25720" y="2136960"/>
              <a:ext cx="1505160" cy="56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17800" y="2136960"/>
              <a:ext cx="1505160" cy="56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dit/Cl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09880" y="2136960"/>
              <a:ext cx="1505160" cy="56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25720" y="4054320"/>
              <a:ext cx="1505160" cy="781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alyz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17800" y="4054320"/>
              <a:ext cx="1505160" cy="781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09880" y="4054320"/>
              <a:ext cx="1505160" cy="7812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25720" y="3131640"/>
              <a:ext cx="5089320" cy="49680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ansmit, Translate, Store, Retrie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42840" y="270540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42840" y="171108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26640" y="171108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34920" y="270540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26640" y="270540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42840" y="362844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34920" y="362844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642840" y="483552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434920" y="483552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31240" y="4409640"/>
              <a:ext cx="286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23320" y="4409640"/>
              <a:ext cx="286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8015040" y="4409640"/>
              <a:ext cx="931320" cy="0"/>
            </a:xfrm>
            <a:prstGeom prst="line">
              <a:avLst/>
            </a:prstGeom>
            <a:ln w="4140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947080" y="4409640"/>
              <a:ext cx="0" cy="1562040"/>
            </a:xfrm>
            <a:prstGeom prst="line">
              <a:avLst/>
            </a:prstGeom>
            <a:ln w="4140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07480" y="3486600"/>
              <a:ext cx="0" cy="2485080"/>
            </a:xfrm>
            <a:prstGeom prst="line">
              <a:avLst/>
            </a:prstGeom>
            <a:ln w="41400">
              <a:solidFill>
                <a:srgbClr val="99cc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707120" y="5972040"/>
              <a:ext cx="7239240" cy="0"/>
            </a:xfrm>
            <a:prstGeom prst="line">
              <a:avLst/>
            </a:prstGeom>
            <a:ln w="4140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24240" y="1214280"/>
              <a:ext cx="5949000" cy="496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Global 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52600" y="1995120"/>
              <a:ext cx="57312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24240" y="2208240"/>
              <a:ext cx="501480" cy="1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24240" y="2421360"/>
              <a:ext cx="50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424240" y="2492280"/>
              <a:ext cx="50148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352600" y="2562840"/>
              <a:ext cx="57312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90720" y="1356120"/>
              <a:ext cx="1433520" cy="20592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352600" y="2633760"/>
              <a:ext cx="57312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elected as examples of currently-installed DSTs only for purposes of illustra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M System — qualit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med — utiliz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medica — physician pro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ai — high risk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Note:  Inclusion of a DST in this presentation should not be construed as an endorsement of the DST,  nor a warrantee that it is fit for a specific or any purpose. Vendors supplied all case study information.  We cannot vouch for its accuracy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QSM system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arketed by HCm (El Segundo, CA)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eveloped originally by Quality Standards in Medicine (Boston, MA) — 1987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ule-based expert system that compares what should have been done and achieved for patient with what was done and achieved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hipped with all rules; permits user-defined studi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ovides intra-, inter-organizational benchmarking data, clinical quality improvement informa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5176800" y="381168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24764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QSM - </a:t>
            </a:r>
            <a:br>
              <a:rPr sz="2800"/>
            </a:br>
            <a:r>
              <a:rPr b="1" lang="en-US" sz="2400" spc="-1" strike="noStrike">
                <a:solidFill>
                  <a:srgbClr val="ff7f00"/>
                </a:solidFill>
                <a:latin typeface="Arial"/>
              </a:rPr>
              <a:t>Steps in the Clinical Quality Improvement Process</a:t>
            </a:r>
            <a:endParaRPr b="1" lang="en-US" sz="24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01680" y="1004760"/>
            <a:ext cx="2805120" cy="38124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35160" y="2091240"/>
            <a:ext cx="28051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s for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41640" y="3412080"/>
            <a:ext cx="25495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s for Peer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8160" y="4820400"/>
            <a:ext cx="28051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 on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3760" y="5845680"/>
            <a:ext cx="281484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78520" y="4100400"/>
            <a:ext cx="1163520" cy="335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13080" y="2746440"/>
            <a:ext cx="1090800" cy="3348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33600" y="147168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ic 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04840" y="2598840"/>
            <a:ext cx="16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erized Scre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59040" y="41212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uctured Peer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19440" y="53132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alysis and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11440" y="1724040"/>
            <a:ext cx="909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14288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26120" y="520236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95960" y="17226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3280" y="308916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34040" y="446256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16760" y="551340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88040" y="5504040"/>
            <a:ext cx="83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38440" y="1731960"/>
            <a:ext cx="852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14960" y="5511960"/>
            <a:ext cx="909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398840" y="4300200"/>
            <a:ext cx="60804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541680" y="2938320"/>
            <a:ext cx="60804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4925520" y="1177920"/>
            <a:ext cx="370548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629560" y="1184400"/>
            <a:ext cx="1800" cy="48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412120" y="604692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1028880" y="343080"/>
          <a:ext cx="8038800" cy="59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343080"/>
                    <a:ext cx="8038800" cy="59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World Development Group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ovides short-, long-term business development assistance; focuses on health care quality management, health information, decision support systems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esigns, evaluates health care DST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urveys industry on DST market issu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atabase of over 500 health information system/decision support vendor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esigned world's first automated quality assessment system, for US DOD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esigned QA/QI component of US HCFA CDAC software/system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esigned QSM System, world's first commercially-available outcome/process assessment QA/benchmarking system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1" name=""/>
          <p:cNvGraphicFramePr/>
          <p:nvPr/>
        </p:nvGraphicFramePr>
        <p:xfrm>
          <a:off x="990720" y="838080"/>
          <a:ext cx="80769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8076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QSM system reports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ocu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tient — process/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of patients —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rganizational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M clients — benchmark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QSM system reports (cont.)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etric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against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reviewers' jud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, length-of-sta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ubject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89080">
              <a:spcBef>
                <a:spcPts val="1125"/>
              </a:spcBef>
              <a:buClr>
                <a:srgbClr val="3333cc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defin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Valumed Medical Management System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arketed by Valumed Systems Inc (Bethesda, MD) — 1996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2824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ulti-faceted managed care decision support tool, packaged with datamart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2824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Builds longitudinal record for each enrollee encompassing all sites of car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2824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cludes 'episode of care' grouper shipped with factory, accommodates user-determined, setting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2824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ports by payor, plan, disease category, PCP, specialist, contract, etc; query tool provides drill-down capability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2824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upports utilization management, costing, margin analysi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chart1" descr=""/>
          <p:cNvPicPr/>
          <p:nvPr/>
        </p:nvPicPr>
        <p:blipFill>
          <a:blip r:embed="rId1"/>
          <a:stretch/>
        </p:blipFill>
        <p:spPr>
          <a:xfrm>
            <a:off x="1238400" y="1009800"/>
            <a:ext cx="7619760" cy="533376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Valumed - Risk Fund Management Report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143000" y="1028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rganize by Diagnostic Range (Multi Code Base Crosswa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rigger on Identification of Sentinel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Establish Continuity Rules (Gap/C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mplement Robustness Rules (Minimum Number of Trans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Valumed - Episode of Care Algorithm 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chart3" descr=""/>
          <p:cNvPicPr/>
          <p:nvPr/>
        </p:nvPicPr>
        <p:blipFill>
          <a:blip r:embed="rId1"/>
          <a:stretch/>
        </p:blipFill>
        <p:spPr>
          <a:xfrm>
            <a:off x="1357200" y="1047600"/>
            <a:ext cx="7258320" cy="5247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Valumed - distribution analysis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chart2" descr=""/>
          <p:cNvPicPr/>
          <p:nvPr/>
        </p:nvPicPr>
        <p:blipFill>
          <a:blip r:embed="rId1"/>
          <a:stretch/>
        </p:blipFill>
        <p:spPr>
          <a:xfrm>
            <a:off x="1312920" y="1101600"/>
            <a:ext cx="7467480" cy="52707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Valumed - CVA/TIA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Datamedica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arketed by PCSD Inc (Minneapolis, MN) — 1990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1672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ovider profiling tool/service, includes data warehousing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1672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cludes case-mix adjustments: separate methodologies for PCPs, specialists.  For PCPs: age-sex of at risk population, exclusion of catastrophic patients, plan/benefit type, multiple diagnostic families.  For specialists: focuses on episode of care, excludes comorbiditi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2960" indent="-28296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Use of RVUs permits benchmarking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1672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cludes reporting tools: standard, additional reports; executive summary; ad-hoc analys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1672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Generates physician profil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43000" y="0"/>
            <a:ext cx="60199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PCP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66760" y="2266920"/>
            <a:ext cx="1378080" cy="106884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PCP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 rot="10783800">
            <a:off x="5559120" y="2326320"/>
            <a:ext cx="2276280" cy="788760"/>
          </a:xfrm>
          <a:custGeom>
            <a:avLst/>
            <a:gdLst>
              <a:gd name="textAreaLeft" fmla="*/ 0 w 2276280"/>
              <a:gd name="textAreaRight" fmla="*/ 2276640 w 2276280"/>
              <a:gd name="textAreaTop" fmla="*/ -360 h 788760"/>
              <a:gd name="textAreaBottom" fmla="*/ 788760 h 78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77" stAng="10800000" swAng="5400000"/>
                <a:lnTo>
                  <a:pt x="15121" y="2883"/>
                </a:lnTo>
                <a:lnTo>
                  <a:pt x="15121" y="0"/>
                </a:lnTo>
                <a:lnTo>
                  <a:pt x="21600" y="6079"/>
                </a:lnTo>
                <a:lnTo>
                  <a:pt x="15121" y="12158"/>
                </a:lnTo>
                <a:lnTo>
                  <a:pt x="15121" y="9275"/>
                </a:lnTo>
                <a:lnTo>
                  <a:pt x="12427" y="9275"/>
                </a:lnTo>
                <a:arcTo wR="6035" hR="2885" stAng="16200000" swAng="-5400000"/>
                <a:lnTo>
                  <a:pt x="6392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10720" y="2392200"/>
            <a:ext cx="1621080" cy="2177280"/>
            <a:chOff x="2610720" y="2392200"/>
            <a:chExt cx="1621080" cy="2177280"/>
          </a:xfrm>
        </p:grpSpPr>
        <p:sp>
          <p:nvSpPr>
            <p:cNvPr id="523" name=""/>
            <p:cNvSpPr/>
            <p:nvPr/>
          </p:nvSpPr>
          <p:spPr>
            <a:xfrm>
              <a:off x="2821320" y="3255840"/>
              <a:ext cx="1410480" cy="131364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ff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arm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 rot="10783800">
              <a:off x="2612520" y="2394000"/>
              <a:ext cx="1071720" cy="78876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-360 h 788760"/>
                <a:gd name="textAreaBottom" fmla="*/ 788760 h 78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77" stAng="10800000" swAng="5400000"/>
                  <a:lnTo>
                    <a:pt x="15121" y="2883"/>
                  </a:lnTo>
                  <a:lnTo>
                    <a:pt x="15121" y="0"/>
                  </a:lnTo>
                  <a:lnTo>
                    <a:pt x="21600" y="6079"/>
                  </a:lnTo>
                  <a:lnTo>
                    <a:pt x="15121" y="12158"/>
                  </a:lnTo>
                  <a:lnTo>
                    <a:pt x="15121" y="9275"/>
                  </a:lnTo>
                  <a:lnTo>
                    <a:pt x="12427" y="9275"/>
                  </a:lnTo>
                  <a:arcTo wR="6035" hR="2885" stAng="16200000" swAng="-5400000"/>
                  <a:lnTo>
                    <a:pt x="6392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 flipV="1" rot="10783800">
            <a:off x="3817440" y="2396160"/>
            <a:ext cx="1808280" cy="788760"/>
          </a:xfrm>
          <a:custGeom>
            <a:avLst/>
            <a:gdLst>
              <a:gd name="textAreaLeft" fmla="*/ 0 w 1808280"/>
              <a:gd name="textAreaRight" fmla="*/ 1808640 w 1808280"/>
              <a:gd name="textAreaTop" fmla="*/ -360 h 788760"/>
              <a:gd name="textAreaBottom" fmla="*/ 788760 h 78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77" stAng="10800000" swAng="5400000"/>
                <a:lnTo>
                  <a:pt x="15121" y="2883"/>
                </a:lnTo>
                <a:lnTo>
                  <a:pt x="15121" y="0"/>
                </a:lnTo>
                <a:lnTo>
                  <a:pt x="21600" y="6079"/>
                </a:lnTo>
                <a:lnTo>
                  <a:pt x="15121" y="12158"/>
                </a:lnTo>
                <a:lnTo>
                  <a:pt x="15121" y="9275"/>
                </a:lnTo>
                <a:lnTo>
                  <a:pt x="12427" y="9275"/>
                </a:lnTo>
                <a:arcTo wR="6035" hR="2885" stAng="16200000" swAng="-5400000"/>
                <a:lnTo>
                  <a:pt x="6392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152960" y="3255840"/>
            <a:ext cx="2346120" cy="2228400"/>
            <a:chOff x="4152960" y="3255840"/>
            <a:chExt cx="2346120" cy="2228400"/>
          </a:xfrm>
        </p:grpSpPr>
        <p:sp>
          <p:nvSpPr>
            <p:cNvPr id="527" name=""/>
            <p:cNvSpPr/>
            <p:nvPr/>
          </p:nvSpPr>
          <p:spPr>
            <a:xfrm>
              <a:off x="4692240" y="3255840"/>
              <a:ext cx="1806840" cy="222840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a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arm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esthes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me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52960" y="3614400"/>
              <a:ext cx="401760" cy="502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319800" y="3174840"/>
            <a:ext cx="2437560" cy="1923480"/>
            <a:chOff x="6319800" y="3174840"/>
            <a:chExt cx="2437560" cy="1923480"/>
          </a:xfrm>
        </p:grpSpPr>
        <p:sp>
          <p:nvSpPr>
            <p:cNvPr id="530" name=""/>
            <p:cNvSpPr/>
            <p:nvPr/>
          </p:nvSpPr>
          <p:spPr>
            <a:xfrm>
              <a:off x="6837840" y="3174840"/>
              <a:ext cx="1919520" cy="192348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arm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habil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rsing 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19800" y="3531600"/>
              <a:ext cx="401400" cy="501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216240" y="4619520"/>
            <a:ext cx="4887720" cy="1362240"/>
            <a:chOff x="3216240" y="4619520"/>
            <a:chExt cx="4887720" cy="1362240"/>
          </a:xfrm>
        </p:grpSpPr>
        <p:sp>
          <p:nvSpPr>
            <p:cNvPr id="533" name=""/>
            <p:cNvSpPr/>
            <p:nvPr/>
          </p:nvSpPr>
          <p:spPr>
            <a:xfrm>
              <a:off x="3216240" y="4619520"/>
              <a:ext cx="334440" cy="13622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5564880" y="3608640"/>
              <a:ext cx="358200" cy="43873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34720" y="5049360"/>
              <a:ext cx="669240" cy="788760"/>
            </a:xfrm>
            <a:prstGeom prst="upArrow">
              <a:avLst>
                <a:gd name="adj1" fmla="val 50000"/>
                <a:gd name="adj2" fmla="val 29465"/>
              </a:avLst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Change in Health Care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152800"/>
            <a:ext cx="1447920" cy="838080"/>
          </a:xfrm>
          <a:prstGeom prst="roundRect">
            <a:avLst>
              <a:gd name="adj" fmla="val 487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so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713040"/>
            <a:ext cx="1447920" cy="838440"/>
          </a:xfrm>
          <a:prstGeom prst="roundRect">
            <a:avLst>
              <a:gd name="adj" fmla="val 487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so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265720"/>
            <a:ext cx="1447920" cy="838080"/>
          </a:xfrm>
          <a:prstGeom prst="roundRect">
            <a:avLst>
              <a:gd name="adj" fmla="val 487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so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02724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5429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540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009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Style Bold Outline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373760" y="572436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201680" y="1357200"/>
            <a:ext cx="7941600" cy="4317480"/>
            <a:chOff x="1201680" y="1357200"/>
            <a:chExt cx="7941600" cy="4317480"/>
          </a:xfrm>
        </p:grpSpPr>
        <p:sp>
          <p:nvSpPr>
            <p:cNvPr id="538" name=""/>
            <p:cNvSpPr/>
            <p:nvPr/>
          </p:nvSpPr>
          <p:spPr>
            <a:xfrm>
              <a:off x="1292040" y="1650960"/>
              <a:ext cx="141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Arial"/>
                </a:rPr>
                <a:t>STR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13600" y="1650960"/>
              <a:ext cx="694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Arial"/>
                </a:rPr>
                <a:t>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80960" y="165096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Arial"/>
                </a:rPr>
                <a:t>PM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90920" y="16509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Arial"/>
                </a:rPr>
                <a:t>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08680" y="16509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Arial"/>
                </a:rPr>
                <a:t>OPSU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64320" y="1650960"/>
              <a:ext cx="84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Arial"/>
                </a:rPr>
                <a:t>H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55320" y="1650960"/>
              <a:ext cx="60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Arial"/>
                </a:rPr>
                <a:t>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120880" y="1650960"/>
              <a:ext cx="9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Arial"/>
                </a:rPr>
                <a:t>RA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23360" y="27194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3360" y="307656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23360" y="379080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2618280" y="2719440"/>
              <a:ext cx="692640" cy="1887120"/>
              <a:chOff x="2618280" y="2719440"/>
              <a:chExt cx="692640" cy="1887120"/>
            </a:xfrm>
          </p:grpSpPr>
          <p:sp>
            <p:nvSpPr>
              <p:cNvPr id="550" name=""/>
              <p:cNvSpPr/>
              <p:nvPr/>
            </p:nvSpPr>
            <p:spPr>
              <a:xfrm>
                <a:off x="2737080" y="2719440"/>
                <a:ext cx="523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37080" y="3076200"/>
                <a:ext cx="523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18280" y="3791160"/>
                <a:ext cx="69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18280" y="4148280"/>
                <a:ext cx="69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3123360" y="414828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1289520" y="2008080"/>
              <a:ext cx="1499040" cy="3309120"/>
              <a:chOff x="1289520" y="2008080"/>
              <a:chExt cx="1499040" cy="3309120"/>
            </a:xfrm>
          </p:grpSpPr>
          <p:sp>
            <p:nvSpPr>
              <p:cNvPr id="556" name=""/>
              <p:cNvSpPr/>
              <p:nvPr/>
            </p:nvSpPr>
            <p:spPr>
              <a:xfrm>
                <a:off x="1289880" y="2720520"/>
                <a:ext cx="14986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-19 M+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289520" y="2008080"/>
                <a:ext cx="1236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&lt;1 M+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289520" y="2364840"/>
                <a:ext cx="132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-4 M+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290600" y="3075840"/>
                <a:ext cx="1235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-39 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90600" y="3431520"/>
                <a:ext cx="13035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-39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90600" y="3791160"/>
                <a:ext cx="1235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-64 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90600" y="4147920"/>
                <a:ext cx="13035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-64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89520" y="450360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5+ 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289520" y="4858920"/>
                <a:ext cx="1041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5+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312920" y="2008080"/>
              <a:ext cx="7630920" cy="180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219320" y="5210280"/>
              <a:ext cx="7833960" cy="464400"/>
              <a:chOff x="1219320" y="5210280"/>
              <a:chExt cx="7833960" cy="464400"/>
            </a:xfrm>
          </p:grpSpPr>
          <p:sp>
            <p:nvSpPr>
              <p:cNvPr id="567" name=""/>
              <p:cNvSpPr/>
              <p:nvPr/>
            </p:nvSpPr>
            <p:spPr>
              <a:xfrm>
                <a:off x="1290960" y="5216400"/>
                <a:ext cx="1472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ALL MM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22960" y="5216400"/>
                <a:ext cx="69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4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248640" y="5216400"/>
                <a:ext cx="1116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315.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21360" y="5216400"/>
                <a:ext cx="947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55.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048200" y="5216400"/>
                <a:ext cx="3556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170960" y="521640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10440" y="5216400"/>
                <a:ext cx="947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55.5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970880" y="5216400"/>
                <a:ext cx="782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02880" y="521640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35800" y="5216400"/>
                <a:ext cx="777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3.4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52280" y="521640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415640" y="521640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106120" y="5216400"/>
                <a:ext cx="947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40.5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073000" y="521640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19320" y="5210280"/>
                <a:ext cx="76294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240000" y="5246640"/>
                <a:ext cx="1047960" cy="3301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201680" y="1357200"/>
              <a:ext cx="214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Actual (Dr. Jon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265920" y="2736720"/>
              <a:ext cx="5877360" cy="1897920"/>
              <a:chOff x="3265920" y="2736720"/>
              <a:chExt cx="5877360" cy="1897920"/>
            </a:xfrm>
          </p:grpSpPr>
          <p:sp>
            <p:nvSpPr>
              <p:cNvPr id="585" name=""/>
              <p:cNvSpPr/>
              <p:nvPr/>
            </p:nvSpPr>
            <p:spPr>
              <a:xfrm>
                <a:off x="3265920" y="2748600"/>
                <a:ext cx="1116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00"/>
                    </a:solidFill>
                    <a:latin typeface="Arial"/>
                  </a:rPr>
                  <a:t>265.5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65920" y="3105720"/>
                <a:ext cx="1116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00"/>
                    </a:solidFill>
                    <a:latin typeface="Arial"/>
                  </a:rPr>
                  <a:t>554.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91480" y="3105720"/>
                <a:ext cx="1116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178.8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37120" y="310572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379480" y="3105720"/>
                <a:ext cx="1116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105.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060520" y="3105720"/>
                <a:ext cx="611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69400" y="310572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526880" y="3105720"/>
                <a:ext cx="777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3.7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441200" y="310572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05280" y="310572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196120" y="3105720"/>
                <a:ext cx="947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32.5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163360" y="310572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65920" y="3819600"/>
                <a:ext cx="1116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00"/>
                    </a:solidFill>
                    <a:latin typeface="Arial"/>
                  </a:rPr>
                  <a:t>350.4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499000" y="3819600"/>
                <a:ext cx="947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78.0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059080" y="3819600"/>
                <a:ext cx="782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91440" y="381960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196120" y="3819600"/>
                <a:ext cx="947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48.9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163360" y="381960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65920" y="4176360"/>
                <a:ext cx="1116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00"/>
                    </a:solidFill>
                    <a:latin typeface="Arial"/>
                  </a:rPr>
                  <a:t>245.4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307760" y="4176360"/>
                <a:ext cx="947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98.4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36760" y="4176360"/>
                <a:ext cx="3556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59880" y="41763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16000" y="4176360"/>
                <a:ext cx="777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9.5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058000" y="4176360"/>
                <a:ext cx="953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15280" y="41763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526880" y="4176360"/>
                <a:ext cx="777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9.5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441200" y="41763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505280" y="41763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196120" y="4176360"/>
                <a:ext cx="947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36.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164800" y="41763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334400" y="2736720"/>
                <a:ext cx="947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Arial"/>
                  </a:rPr>
                  <a:t>80.5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0824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f00"/>
                </a:solidFill>
                <a:latin typeface="Arial"/>
              </a:rPr>
              <a:t>Case Mix by Age/Sex/Diagnosis</a:t>
            </a:r>
            <a:endParaRPr b="1" lang="en-US" sz="2400" spc="-1" strike="noStrike">
              <a:solidFill>
                <a:srgbClr val="ff7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43000" y="247680"/>
            <a:ext cx="6019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f00"/>
                </a:solidFill>
                <a:latin typeface="Arial"/>
              </a:rPr>
              <a:t>Case Mix by Age/Sex/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1560600" y="5524560"/>
            <a:ext cx="7183440" cy="606240"/>
            <a:chOff x="1560600" y="5524560"/>
            <a:chExt cx="7183440" cy="606240"/>
          </a:xfrm>
        </p:grpSpPr>
        <p:sp>
          <p:nvSpPr>
            <p:cNvPr id="619" name=""/>
            <p:cNvSpPr/>
            <p:nvPr/>
          </p:nvSpPr>
          <p:spPr>
            <a:xfrm>
              <a:off x="1630440" y="5601960"/>
              <a:ext cx="682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88.47 / 92.16 = Relative Resource Utilization Index  0.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60600" y="5524560"/>
              <a:ext cx="7183440" cy="606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584720" y="1363680"/>
            <a:ext cx="6662520" cy="3738960"/>
            <a:chOff x="1584720" y="1363680"/>
            <a:chExt cx="6662520" cy="3738960"/>
          </a:xfrm>
        </p:grpSpPr>
        <p:sp>
          <p:nvSpPr>
            <p:cNvPr id="622" name=""/>
            <p:cNvSpPr/>
            <p:nvPr/>
          </p:nvSpPr>
          <p:spPr>
            <a:xfrm>
              <a:off x="5222160" y="1657080"/>
              <a:ext cx="1233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AC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30480" y="1657080"/>
              <a:ext cx="1555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EXP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87320" y="1925640"/>
              <a:ext cx="1613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DIAGNO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35720" y="1925640"/>
              <a:ext cx="60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06560" y="1925640"/>
              <a:ext cx="947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PM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25920" y="1925640"/>
              <a:ext cx="947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PM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97120" y="2249280"/>
              <a:ext cx="535932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2652120" y="2911320"/>
              <a:ext cx="5595120" cy="1738800"/>
              <a:chOff x="2652120" y="2911320"/>
              <a:chExt cx="5595120" cy="1738800"/>
            </a:xfrm>
          </p:grpSpPr>
          <p:sp>
            <p:nvSpPr>
              <p:cNvPr id="630" name=""/>
              <p:cNvSpPr/>
              <p:nvPr/>
            </p:nvSpPr>
            <p:spPr>
              <a:xfrm>
                <a:off x="2652840" y="2911320"/>
                <a:ext cx="1699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nal Fail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52080" y="291132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64160" y="291132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28.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83520" y="291132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69.6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53200" y="3179520"/>
                <a:ext cx="835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DD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07360" y="3179520"/>
                <a:ext cx="610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4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564160" y="317952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93.5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283520" y="317952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06.8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652120" y="3447720"/>
                <a:ext cx="16160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as Dise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07360" y="3447720"/>
                <a:ext cx="610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564160" y="344772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06.3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83520" y="344772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07.5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53200" y="3715920"/>
                <a:ext cx="921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P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852080" y="371592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564160" y="371592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16.6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283520" y="371592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54.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34760" y="39844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733280" y="39844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79440" y="39844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46440" y="39844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34760" y="42526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33280" y="42526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779440" y="42526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246440" y="42526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665080" y="2342880"/>
              <a:ext cx="5527800" cy="399240"/>
              <a:chOff x="2665080" y="2342880"/>
              <a:chExt cx="5527800" cy="399240"/>
            </a:xfrm>
          </p:grpSpPr>
          <p:sp>
            <p:nvSpPr>
              <p:cNvPr id="655" name=""/>
              <p:cNvSpPr/>
              <p:nvPr/>
            </p:nvSpPr>
            <p:spPr>
              <a:xfrm>
                <a:off x="2665080" y="2342880"/>
                <a:ext cx="117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</a:rPr>
                  <a:t>No C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71840" y="234288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</a:rPr>
                  <a:t>11,44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51640" y="2344680"/>
                <a:ext cx="82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</a:rPr>
                  <a:t>54.7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370640" y="2344680"/>
                <a:ext cx="82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</a:rPr>
                  <a:t>57.4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664720" y="2619360"/>
              <a:ext cx="5566680" cy="425880"/>
              <a:chOff x="2664720" y="2619360"/>
              <a:chExt cx="5566680" cy="425880"/>
            </a:xfrm>
          </p:grpSpPr>
          <p:sp>
            <p:nvSpPr>
              <p:cNvPr id="660" name=""/>
              <p:cNvSpPr/>
              <p:nvPr/>
            </p:nvSpPr>
            <p:spPr>
              <a:xfrm>
                <a:off x="2664720" y="2619360"/>
                <a:ext cx="1008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Canc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735800" y="2631960"/>
                <a:ext cx="610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43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514840" y="264780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315.4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67680" y="2647800"/>
                <a:ext cx="963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00"/>
                    </a:solidFill>
                    <a:latin typeface="Arial"/>
                  </a:rPr>
                  <a:t>318.2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660760" y="4705200"/>
              <a:ext cx="5568840" cy="397440"/>
              <a:chOff x="2660760" y="4705200"/>
              <a:chExt cx="5568840" cy="397440"/>
            </a:xfrm>
          </p:grpSpPr>
          <p:sp>
            <p:nvSpPr>
              <p:cNvPr id="665" name=""/>
              <p:cNvSpPr/>
              <p:nvPr/>
            </p:nvSpPr>
            <p:spPr>
              <a:xfrm>
                <a:off x="2660760" y="4705200"/>
                <a:ext cx="1119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</a:rPr>
                  <a:t>TOTAL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424400" y="4705200"/>
                <a:ext cx="89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</a:rPr>
                  <a:t>135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16800" y="4705200"/>
                <a:ext cx="82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</a:rPr>
                  <a:t>88.4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48680" y="4705200"/>
                <a:ext cx="82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</a:rPr>
                  <a:t>92.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561000" y="4705200"/>
                <a:ext cx="885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</a:rPr>
                  <a:t>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17720" y="470520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90720" y="4725720"/>
                <a:ext cx="535932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2360" y="4748040"/>
                <a:ext cx="2667240" cy="331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1584720" y="136368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Dr. J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143000" y="228600"/>
            <a:ext cx="60199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PCP Relativ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355760" y="1104840"/>
            <a:ext cx="7788240" cy="4985640"/>
            <a:chOff x="1355760" y="1104840"/>
            <a:chExt cx="7788240" cy="4985640"/>
          </a:xfrm>
        </p:grpSpPr>
        <p:sp>
          <p:nvSpPr>
            <p:cNvPr id="676" name=""/>
            <p:cNvSpPr/>
            <p:nvPr/>
          </p:nvSpPr>
          <p:spPr>
            <a:xfrm>
              <a:off x="2929320" y="1104840"/>
              <a:ext cx="67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91520" y="1104840"/>
              <a:ext cx="50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33680" y="110484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57920" y="11048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35880" y="11048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94600" y="1104840"/>
              <a:ext cx="77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/E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33320" y="1104840"/>
              <a:ext cx="1210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TASTROPH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58640" y="13035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56600" y="130356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80040" y="130356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29680" y="1303560"/>
              <a:ext cx="66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57400" y="130356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46360" y="130356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22880" y="130356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35760" y="130356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75320" y="1303560"/>
              <a:ext cx="79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ARI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54440" y="1303560"/>
              <a:ext cx="57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235720" y="128016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/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56480" y="15037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4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80400" y="15037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89760" y="1503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12400" y="150372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240" y="15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91960" y="15037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,3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78760" y="15037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75760" y="15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54280" y="15037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8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16400" y="15037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27280" y="15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94520" y="15037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.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43160" y="15037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79040" y="15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74720" y="1503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20040" y="150372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8240" y="15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55400" y="15037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,0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10320" y="15037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.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9120" y="15037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512840" y="15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741880" y="150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935480" y="150372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721360" y="15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355760" y="170208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81480" y="170208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89760" y="170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912400" y="170208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60240" y="170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23920" y="1702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,88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78760" y="17020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99800" y="170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48800" y="170208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498.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15680" y="170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52400" y="170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30440" y="1702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9.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43520" y="1702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03440" y="170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72120" y="1702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8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19680" y="1702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54120" y="170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88080" y="1702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,0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79800" y="1702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.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79120" y="170208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50640" y="170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741880" y="1702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935480" y="170208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721360" y="170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56480" y="1902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80760" y="19026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22440" y="1902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11680" y="19026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23160" y="190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1960" y="19026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,2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78760" y="1902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75760" y="190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54280" y="19026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97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16400" y="1902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27280" y="190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94520" y="19026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6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43160" y="19026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79040" y="190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4720" y="1902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20040" y="190260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68240" y="190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55400" y="19026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,4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79800" y="1902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4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79120" y="19026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50640" y="190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741880" y="1902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935480" y="190260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721360" y="190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6480" y="2102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80400" y="21027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89760" y="210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12400" y="210276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60240" y="210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91960" y="21027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,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78760" y="2102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75760" y="210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48800" y="210276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247.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15680" y="210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352400" y="210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30440" y="210276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.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43520" y="2102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203440" y="210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72120" y="21027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2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19680" y="21027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54120" y="210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55400" y="21027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,9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79800" y="2102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79120" y="210276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50640" y="210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741880" y="2102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35480" y="210276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721360" y="210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56480" y="2301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481480" y="230112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22440" y="2301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11680" y="23011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23160" y="230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1960" y="23011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8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78760" y="2301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75760" y="230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54280" y="23011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6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16400" y="2301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27280" y="230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94520" y="23011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.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43160" y="23011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79040" y="230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74720" y="2301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20040" y="230112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68240" y="230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55400" y="23011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4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79800" y="2301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79120" y="230112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50640" y="230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541720" y="23011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,1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34760" y="2301120"/>
              <a:ext cx="68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534160" y="230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56480" y="2501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80040" y="250128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89760" y="250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12400" y="250128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360240" y="250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94920" y="2501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79120" y="25012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87720" y="250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54280" y="25012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3.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316400" y="250128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27280" y="250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94520" y="2501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.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43160" y="2501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79040" y="250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40600" y="2501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20400" y="250128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41320" y="250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59440" y="2501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79800" y="25012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8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79120" y="250128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550640" y="250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741880" y="250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35480" y="250128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721360" y="250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355760" y="27018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3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81480" y="27018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22440" y="2701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11680" y="27018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323160" y="2701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23920" y="27018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,75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78760" y="2701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99800" y="2701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54280" y="27018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1.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6400" y="2701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27280" y="2701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30440" y="27018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2.7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43520" y="27018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203440" y="2701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72120" y="27018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,2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19680" y="27018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4120" y="2701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55400" y="27018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,5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79800" y="27018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79120" y="27018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50640" y="2701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741880" y="2701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935480" y="270180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721360" y="2701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56480" y="29001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7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81120" y="290016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22440" y="2900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11680" y="290016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23160" y="290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91960" y="29001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,8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78760" y="29001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75760" y="290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54280" y="290016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1.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316400" y="290016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27280" y="290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94520" y="29001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.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943160" y="29001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79040" y="290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1384920" y="2912760"/>
              <a:ext cx="7698600" cy="1779120"/>
              <a:chOff x="1384920" y="2912760"/>
              <a:chExt cx="7698600" cy="1779120"/>
            </a:xfrm>
          </p:grpSpPr>
          <p:sp>
            <p:nvSpPr>
              <p:cNvPr id="877" name=""/>
              <p:cNvSpPr/>
              <p:nvPr/>
            </p:nvSpPr>
            <p:spPr>
              <a:xfrm>
                <a:off x="6099480" y="291276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,5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747040" y="291276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081120" y="2912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81680" y="291276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,3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04640" y="291276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204320" y="291276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79800" y="2912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767800" y="291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964280" y="2912760"/>
                <a:ext cx="89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749440" y="2912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384920" y="31129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6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08480" y="3112920"/>
                <a:ext cx="212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417120" y="311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41920" y="3112920"/>
                <a:ext cx="51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92280" y="3112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919680" y="31129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,45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03960" y="31129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904200" y="3112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78040" y="311292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82.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342680" y="311292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455000" y="3112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256360" y="311292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81.7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69440" y="311292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233320" y="3112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03880" y="31129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5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747040" y="3112920"/>
                <a:ext cx="51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195240" y="3112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781680" y="31129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8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04640" y="311292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204320" y="311292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579800" y="3112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67800" y="3112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964280" y="3112920"/>
                <a:ext cx="89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49440" y="3112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84920" y="33127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1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509200" y="3312720"/>
                <a:ext cx="16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50880" y="33127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942280" y="331272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52320" y="331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919680" y="33127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,5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603960" y="33127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04200" y="331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478040" y="331272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25.9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342680" y="331272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455000" y="331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323320" y="33127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2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969440" y="33127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304240" y="331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099480" y="33127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,62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747040" y="33127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081120" y="331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781680" y="33127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,9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04640" y="331272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.6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204320" y="331272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79800" y="331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767800" y="3312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64280" y="3312720"/>
                <a:ext cx="89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749440" y="331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84920" y="351144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507040" y="351144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417120" y="351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941920" y="3511440"/>
                <a:ext cx="51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392280" y="351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919680" y="35114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1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603960" y="35114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904200" y="351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478040" y="351144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11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342680" y="35114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455000" y="351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256360" y="351144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5.5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969440" y="351144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33320" y="351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203880" y="35114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47040" y="3511440"/>
                <a:ext cx="51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195240" y="351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887160" y="35114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04640" y="351144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04320" y="351144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579800" y="351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767800" y="3511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964280" y="3511440"/>
                <a:ext cx="89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749440" y="351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84920" y="37116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2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507400" y="3711600"/>
                <a:ext cx="19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350880" y="371160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942280" y="371160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352320" y="3711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853800" y="371160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,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603600" y="371160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828600" y="3711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478040" y="371160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46.5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42680" y="371160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55000" y="3711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256360" y="371160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3.4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969440" y="371160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233320" y="3711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099480" y="371160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,48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747040" y="371160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081120" y="3711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16520" y="371160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,5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04640" y="371160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.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204320" y="371160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579800" y="3711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767800" y="37116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964280" y="3711600"/>
                <a:ext cx="89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749440" y="3711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384920" y="39121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507040" y="391212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350880" y="3912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42280" y="391212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352320" y="391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19680" y="39121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,07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603960" y="39121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904200" y="391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478040" y="391212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74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342680" y="391212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455000" y="391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323320" y="39121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2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969440" y="39121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304240" y="391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203880" y="39121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747040" y="3912120"/>
                <a:ext cx="51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195240" y="391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781680" y="391212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,15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604640" y="391212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.3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204320" y="391212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79800" y="391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767800" y="3912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964280" y="3912120"/>
                <a:ext cx="89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749440" y="391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384920" y="410904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0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507400" y="4109040"/>
                <a:ext cx="19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350880" y="41090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942280" y="410904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52320" y="410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853800" y="410904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,0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603600" y="41090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828600" y="410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478040" y="410904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5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342680" y="41090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455000" y="410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256360" y="410904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4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69440" y="410904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233320" y="410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099480" y="41090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,6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747040" y="41090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081120" y="410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781680" y="41090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,3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04640" y="410904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.6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204320" y="410904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79800" y="410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767800" y="4109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964280" y="4109040"/>
                <a:ext cx="89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749440" y="410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384920" y="431064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147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507400" y="4310640"/>
                <a:ext cx="19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350880" y="43106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942280" y="431064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352320" y="4310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919680" y="43106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,1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603960" y="4310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904200" y="4310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478040" y="431064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89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342680" y="4310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455000" y="4310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23320" y="43106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2.0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969440" y="43106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04240" y="4310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099480" y="43106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1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747040" y="43106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081120" y="4310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781680" y="43106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94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04640" y="431064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.6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204320" y="431064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579800" y="4310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767800" y="4310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964280" y="4310640"/>
                <a:ext cx="89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749440" y="4310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384920" y="450900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123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508480" y="4509000"/>
                <a:ext cx="212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350880" y="450900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942280" y="450900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352320" y="4509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853800" y="450900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,4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03600" y="450900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828600" y="4509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478040" y="450900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44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342680" y="450900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455000" y="4509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256360" y="450900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.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969440" y="450900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233320" y="4509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099480" y="450900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,8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7040" y="450900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081120" y="4509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781680" y="450900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,5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04640" y="4509000"/>
                <a:ext cx="29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.2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204320" y="4509000"/>
                <a:ext cx="42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579800" y="4509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99880" y="4509000"/>
                <a:ext cx="68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,074,97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7963200" y="450936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75040" y="4509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384920" y="4709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509200" y="470988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49440" y="4709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940840" y="47098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51240" y="470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852360" y="47098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,6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604320" y="4709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26800" y="470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80200" y="47098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5.4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343040" y="470988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57160" y="470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23680" y="47098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6.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969440" y="47098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306400" y="470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98760" y="47098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,9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47400" y="47098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084720" y="470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82040" y="47098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,7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606800" y="4709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05760" y="470988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79800" y="470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768160" y="4709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64280" y="470988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751240" y="470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84920" y="491004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9200" y="49100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83560" y="4910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40480" y="49100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76360" y="49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52360" y="491004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,5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04320" y="4910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26800" y="49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480200" y="491004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6.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343040" y="491004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457160" y="49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256360" y="491004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5.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69440" y="4910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33320" y="49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32520" y="491004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,6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47040" y="4910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011640" y="49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716520" y="491004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,9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06800" y="4910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05760" y="491004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579800" y="49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768160" y="4910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64280" y="491004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751240" y="49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84920" y="51084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4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509200" y="51084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349440" y="5108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940840" y="51084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351240" y="5108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18600" y="51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,5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603960" y="5108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03120" y="5108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480200" y="51084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8.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43040" y="51084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457160" y="5108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23680" y="51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.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69440" y="51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06400" y="5108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098760" y="51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0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747400" y="51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84720" y="5108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782040" y="51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4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606800" y="51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205760" y="51084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79800" y="5108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502120" y="51084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2,9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963560" y="510840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485200" y="5108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920" y="5308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7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509200" y="530856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49440" y="53085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940840" y="530856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51240" y="530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52360" y="530856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,3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604320" y="530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26800" y="530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480200" y="530856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6.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343040" y="530856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55720" y="530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23680" y="5308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.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969440" y="5308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06400" y="530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098040" y="5308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,2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747400" y="5308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84720" y="530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780600" y="5308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,1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06800" y="5308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05760" y="530856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579800" y="530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768160" y="5308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964280" y="530856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751240" y="530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84920" y="550908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09200" y="55090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349440" y="5509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40840" y="5509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351240" y="550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918600" y="5509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,1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603960" y="55090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903120" y="550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80200" y="5509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43040" y="550908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55720" y="550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323680" y="5509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3.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69440" y="5509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06400" y="550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8040" y="5509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8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747400" y="5509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84720" y="550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80600" y="5509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,2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06800" y="5509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205760" y="550908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79800" y="550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768160" y="5509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64280" y="550908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751240" y="550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384920" y="570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509560" y="57060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415680" y="5706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40840" y="570600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9040" y="570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22280" y="57060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04320" y="57060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012560" y="570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80200" y="57060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9.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43040" y="57060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55720" y="570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23680" y="57060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.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69440" y="57060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06400" y="570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203880" y="57060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47400" y="570600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95240" y="570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887160" y="57060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606800" y="57060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205760" y="57060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79800" y="570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768160" y="5706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964280" y="570600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751240" y="570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84920" y="59076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0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509200" y="59076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283560" y="5907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40480" y="59076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76360" y="590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52360" y="59076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,6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604320" y="5907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826800" y="590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480200" y="59076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4.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43040" y="5907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455720" y="590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323680" y="59076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.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969440" y="59076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306400" y="590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032520" y="59076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,0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47040" y="5907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011640" y="590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16520" y="59076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,6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06800" y="5907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205760" y="59076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79800" y="590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635680" y="59076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,5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963560" y="590760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638920" y="590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359000" y="1503720"/>
              <a:ext cx="7642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359000" y="1503720"/>
              <a:ext cx="764280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359000" y="1477440"/>
              <a:ext cx="7642800" cy="0"/>
            </a:xfrm>
            <a:prstGeom prst="line">
              <a:avLst/>
            </a:prstGeom>
            <a:ln w="64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Pinpoint High Risk Predictor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arketed by MEDai (Orlando, FL) — 1992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rtificial intelligence (AI)-based DST; packaged with data  warehousing tool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edicts (with up to 90% accuracy) who will develop which disease, financial impact (costs) of that individua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2" name="" descr=""/>
          <p:cNvPicPr/>
          <p:nvPr/>
        </p:nvPicPr>
        <p:blipFill>
          <a:blip r:embed="rId1"/>
          <a:stretch/>
        </p:blipFill>
        <p:spPr>
          <a:xfrm>
            <a:off x="5657760" y="3143160"/>
            <a:ext cx="2367000" cy="2427480"/>
          </a:xfrm>
          <a:prstGeom prst="rect">
            <a:avLst/>
          </a:prstGeom>
          <a:ln w="0">
            <a:noFill/>
          </a:ln>
        </p:spPr>
      </p:pic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Neural Net Strengths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rained, Not Programmed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Non-Linear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Non-Parametric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ter-relationship Between Variables Strengthens Proces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ccepts Missing Dat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No Need to Remove Outlier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onsiders Multiple Outcom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f00"/>
                </a:solidFill>
                <a:latin typeface="Arial"/>
              </a:rPr>
              <a:t>High Risk Predictor  -  Case Study #2</a:t>
            </a:r>
            <a:br>
              <a:rPr sz="1800"/>
            </a:br>
            <a:r>
              <a:rPr b="1" lang="en-US" sz="1800" spc="-1" strike="noStrike">
                <a:solidFill>
                  <a:srgbClr val="ff7f00"/>
                </a:solidFill>
                <a:latin typeface="Arial"/>
              </a:rPr>
              <a:t>Chronic Disease and Cost Predictions</a:t>
            </a:r>
            <a:endParaRPr b="1" lang="en-US" sz="1800" spc="-1" strike="noStrike">
              <a:solidFill>
                <a:srgbClr val="ff7f00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2552760" y="1174680"/>
            <a:ext cx="499428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f00"/>
                </a:solidFill>
                <a:latin typeface="Arial"/>
              </a:rPr>
              <a:t>High Risk Predictor  -  Case Study #2</a:t>
            </a:r>
            <a:br>
              <a:rPr sz="1800"/>
            </a:br>
            <a:r>
              <a:rPr b="1" lang="en-US" sz="1800" spc="-1" strike="noStrike">
                <a:solidFill>
                  <a:srgbClr val="ff7f00"/>
                </a:solidFill>
                <a:latin typeface="Arial"/>
              </a:rPr>
              <a:t>Chronic Disease and Cost Predictions</a:t>
            </a:r>
            <a:endParaRPr b="1" lang="en-US" sz="1800" spc="-1" strike="noStrike">
              <a:solidFill>
                <a:srgbClr val="ff7f00"/>
              </a:solidFill>
              <a:latin typeface="Arial"/>
            </a:endParaRPr>
          </a:p>
        </p:txBody>
      </p:sp>
      <p:pic>
        <p:nvPicPr>
          <p:cNvPr id="1258" name="" descr=""/>
          <p:cNvPicPr/>
          <p:nvPr/>
        </p:nvPicPr>
        <p:blipFill>
          <a:blip r:embed="rId1"/>
          <a:stretch/>
        </p:blipFill>
        <p:spPr>
          <a:xfrm>
            <a:off x="1104840" y="1314360"/>
            <a:ext cx="775980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High Risk Predictor</a:t>
            </a:r>
            <a:br>
              <a:rPr sz="2800"/>
            </a:b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argets high risk individuals for proactive intervention and tracking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ccurately forecasts health plan cost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oduces reliable information for program development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ailored to specific population served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Unlike actuarials, MEDai focuses on both the individual and the population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Summary/conclusions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Widespread use of DSTs is coming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Expanding data in warehouses demands value-added use of warehoused dat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STs will be decoupled from packaged data warehous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otential benefits of DSTs are truly enormous; challenges to their development/deployment equally great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692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Biggest challenge of all: deciding which decisions are fundamentally important enough to warrant valid DSTs; allocating resources to develop/deploy them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Summary/conclusions (cont.)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Biggest development challenge: specifying valid analytic models, technologi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evelopment/deployment of DSTs will shape data warehousing technology, contents — including clinical informatio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STs promise to be fastest growing health information system segment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289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Change in Health Care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152800"/>
            <a:ext cx="1447920" cy="838080"/>
          </a:xfrm>
          <a:prstGeom prst="roundRect">
            <a:avLst>
              <a:gd name="adj" fmla="val 487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so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713040"/>
            <a:ext cx="1447920" cy="838440"/>
          </a:xfrm>
          <a:prstGeom prst="roundRect">
            <a:avLst>
              <a:gd name="adj" fmla="val 487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so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265720"/>
            <a:ext cx="1447920" cy="838080"/>
          </a:xfrm>
          <a:prstGeom prst="roundRect">
            <a:avLst>
              <a:gd name="adj" fmla="val 487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so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302724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5429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540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009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Style Bold Outline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9360" y="5467320"/>
            <a:ext cx="144792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29360" y="4419720"/>
            <a:ext cx="144792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2286000"/>
            <a:ext cx="144792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4320" y="3333600"/>
            <a:ext cx="144792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59440" y="4025880"/>
            <a:ext cx="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2889360"/>
            <a:ext cx="0" cy="44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41800" y="1816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59440" y="5092560"/>
            <a:ext cx="0" cy="3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029200" y="10094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8280" y="5410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009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009800"/>
            <a:ext cx="1296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154296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6040" y="5810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62520" y="1537920"/>
            <a:ext cx="3553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120" y="2577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68640" y="3638160"/>
            <a:ext cx="3556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816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1040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7728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82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502480" y="5810400"/>
            <a:ext cx="36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845560" y="2571840"/>
            <a:ext cx="648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13143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Fu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2273400"/>
            <a:ext cx="1447920" cy="685800"/>
          </a:xfrm>
          <a:prstGeom prst="roundRect">
            <a:avLst>
              <a:gd name="adj" fmla="val 4875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238400"/>
            <a:ext cx="14479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62480" y="4432320"/>
            <a:ext cx="13968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Production of outcomes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50920" y="4521240"/>
            <a:ext cx="515520" cy="1085400"/>
            <a:chOff x="2050920" y="4521240"/>
            <a:chExt cx="515520" cy="1085400"/>
          </a:xfrm>
        </p:grpSpPr>
        <p:sp>
          <p:nvSpPr>
            <p:cNvPr id="155" name=""/>
            <p:cNvSpPr/>
            <p:nvPr/>
          </p:nvSpPr>
          <p:spPr>
            <a:xfrm>
              <a:off x="2050920" y="4705200"/>
              <a:ext cx="515520" cy="901440"/>
            </a:xfrm>
            <a:custGeom>
              <a:avLst/>
              <a:gdLst/>
              <a:ahLst/>
              <a:rect l="l" t="t" r="r" b="b"/>
              <a:pathLst>
                <a:path w="588" h="1258">
                  <a:moveTo>
                    <a:pt x="588" y="566"/>
                  </a:moveTo>
                  <a:lnTo>
                    <a:pt x="585" y="523"/>
                  </a:lnTo>
                  <a:lnTo>
                    <a:pt x="576" y="458"/>
                  </a:lnTo>
                  <a:lnTo>
                    <a:pt x="568" y="390"/>
                  </a:lnTo>
                  <a:lnTo>
                    <a:pt x="565" y="343"/>
                  </a:lnTo>
                  <a:lnTo>
                    <a:pt x="564" y="323"/>
                  </a:lnTo>
                  <a:lnTo>
                    <a:pt x="559" y="293"/>
                  </a:lnTo>
                  <a:lnTo>
                    <a:pt x="553" y="258"/>
                  </a:lnTo>
                  <a:lnTo>
                    <a:pt x="547" y="220"/>
                  </a:lnTo>
                  <a:lnTo>
                    <a:pt x="539" y="182"/>
                  </a:lnTo>
                  <a:lnTo>
                    <a:pt x="530" y="146"/>
                  </a:lnTo>
                  <a:lnTo>
                    <a:pt x="525" y="116"/>
                  </a:lnTo>
                  <a:lnTo>
                    <a:pt x="519" y="96"/>
                  </a:lnTo>
                  <a:lnTo>
                    <a:pt x="513" y="84"/>
                  </a:lnTo>
                  <a:lnTo>
                    <a:pt x="503" y="69"/>
                  </a:lnTo>
                  <a:lnTo>
                    <a:pt x="489" y="55"/>
                  </a:lnTo>
                  <a:lnTo>
                    <a:pt x="473" y="40"/>
                  </a:lnTo>
                  <a:lnTo>
                    <a:pt x="456" y="27"/>
                  </a:lnTo>
                  <a:lnTo>
                    <a:pt x="440" y="16"/>
                  </a:lnTo>
                  <a:lnTo>
                    <a:pt x="422" y="7"/>
                  </a:lnTo>
                  <a:lnTo>
                    <a:pt x="408" y="1"/>
                  </a:lnTo>
                  <a:lnTo>
                    <a:pt x="407" y="1"/>
                  </a:lnTo>
                  <a:lnTo>
                    <a:pt x="406" y="0"/>
                  </a:lnTo>
                  <a:lnTo>
                    <a:pt x="404" y="0"/>
                  </a:lnTo>
                  <a:lnTo>
                    <a:pt x="403" y="0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2"/>
                  </a:lnTo>
                  <a:lnTo>
                    <a:pt x="274" y="327"/>
                  </a:lnTo>
                  <a:lnTo>
                    <a:pt x="183" y="5"/>
                  </a:lnTo>
                  <a:lnTo>
                    <a:pt x="175" y="7"/>
                  </a:lnTo>
                  <a:lnTo>
                    <a:pt x="168" y="9"/>
                  </a:lnTo>
                  <a:lnTo>
                    <a:pt x="160" y="10"/>
                  </a:lnTo>
                  <a:lnTo>
                    <a:pt x="152" y="12"/>
                  </a:lnTo>
                  <a:lnTo>
                    <a:pt x="140" y="17"/>
                  </a:lnTo>
                  <a:lnTo>
                    <a:pt x="129" y="25"/>
                  </a:lnTo>
                  <a:lnTo>
                    <a:pt x="117" y="35"/>
                  </a:lnTo>
                  <a:lnTo>
                    <a:pt x="107" y="48"/>
                  </a:lnTo>
                  <a:lnTo>
                    <a:pt x="97" y="61"/>
                  </a:lnTo>
                  <a:lnTo>
                    <a:pt x="89" y="74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1" y="114"/>
                  </a:lnTo>
                  <a:lnTo>
                    <a:pt x="67" y="133"/>
                  </a:lnTo>
                  <a:lnTo>
                    <a:pt x="62" y="155"/>
                  </a:lnTo>
                  <a:lnTo>
                    <a:pt x="58" y="179"/>
                  </a:lnTo>
                  <a:lnTo>
                    <a:pt x="52" y="205"/>
                  </a:lnTo>
                  <a:lnTo>
                    <a:pt x="47" y="229"/>
                  </a:lnTo>
                  <a:lnTo>
                    <a:pt x="43" y="252"/>
                  </a:lnTo>
                  <a:lnTo>
                    <a:pt x="38" y="271"/>
                  </a:lnTo>
                  <a:lnTo>
                    <a:pt x="31" y="324"/>
                  </a:lnTo>
                  <a:lnTo>
                    <a:pt x="25" y="399"/>
                  </a:lnTo>
                  <a:lnTo>
                    <a:pt x="21" y="471"/>
                  </a:lnTo>
                  <a:lnTo>
                    <a:pt x="15" y="513"/>
                  </a:lnTo>
                  <a:lnTo>
                    <a:pt x="12" y="533"/>
                  </a:lnTo>
                  <a:lnTo>
                    <a:pt x="9" y="550"/>
                  </a:lnTo>
                  <a:lnTo>
                    <a:pt x="8" y="561"/>
                  </a:lnTo>
                  <a:lnTo>
                    <a:pt x="8" y="566"/>
                  </a:lnTo>
                  <a:lnTo>
                    <a:pt x="137" y="566"/>
                  </a:lnTo>
                  <a:lnTo>
                    <a:pt x="0" y="1258"/>
                  </a:lnTo>
                  <a:lnTo>
                    <a:pt x="186" y="1258"/>
                  </a:lnTo>
                  <a:lnTo>
                    <a:pt x="299" y="753"/>
                  </a:lnTo>
                  <a:lnTo>
                    <a:pt x="301" y="770"/>
                  </a:lnTo>
                  <a:lnTo>
                    <a:pt x="308" y="816"/>
                  </a:lnTo>
                  <a:lnTo>
                    <a:pt x="319" y="883"/>
                  </a:lnTo>
                  <a:lnTo>
                    <a:pt x="330" y="963"/>
                  </a:lnTo>
                  <a:lnTo>
                    <a:pt x="344" y="1048"/>
                  </a:lnTo>
                  <a:lnTo>
                    <a:pt x="358" y="1130"/>
                  </a:lnTo>
                  <a:lnTo>
                    <a:pt x="371" y="1202"/>
                  </a:lnTo>
                  <a:lnTo>
                    <a:pt x="382" y="1253"/>
                  </a:lnTo>
                  <a:lnTo>
                    <a:pt x="389" y="1253"/>
                  </a:lnTo>
                  <a:lnTo>
                    <a:pt x="397" y="1253"/>
                  </a:lnTo>
                  <a:lnTo>
                    <a:pt x="406" y="1253"/>
                  </a:lnTo>
                  <a:lnTo>
                    <a:pt x="417" y="1253"/>
                  </a:lnTo>
                  <a:lnTo>
                    <a:pt x="429" y="1253"/>
                  </a:lnTo>
                  <a:lnTo>
                    <a:pt x="442" y="1253"/>
                  </a:lnTo>
                  <a:lnTo>
                    <a:pt x="456" y="1253"/>
                  </a:lnTo>
                  <a:lnTo>
                    <a:pt x="469" y="1253"/>
                  </a:lnTo>
                  <a:lnTo>
                    <a:pt x="483" y="1253"/>
                  </a:lnTo>
                  <a:lnTo>
                    <a:pt x="498" y="1253"/>
                  </a:lnTo>
                  <a:lnTo>
                    <a:pt x="513" y="1253"/>
                  </a:lnTo>
                  <a:lnTo>
                    <a:pt x="527" y="1253"/>
                  </a:lnTo>
                  <a:lnTo>
                    <a:pt x="542" y="1253"/>
                  </a:lnTo>
                  <a:lnTo>
                    <a:pt x="555" y="1253"/>
                  </a:lnTo>
                  <a:lnTo>
                    <a:pt x="568" y="1253"/>
                  </a:lnTo>
                  <a:lnTo>
                    <a:pt x="580" y="1253"/>
                  </a:lnTo>
                  <a:lnTo>
                    <a:pt x="572" y="1213"/>
                  </a:lnTo>
                  <a:lnTo>
                    <a:pt x="557" y="1135"/>
                  </a:lnTo>
                  <a:lnTo>
                    <a:pt x="539" y="1031"/>
                  </a:lnTo>
                  <a:lnTo>
                    <a:pt x="518" y="914"/>
                  </a:lnTo>
                  <a:lnTo>
                    <a:pt x="498" y="796"/>
                  </a:lnTo>
                  <a:lnTo>
                    <a:pt x="481" y="690"/>
                  </a:lnTo>
                  <a:lnTo>
                    <a:pt x="468" y="608"/>
                  </a:lnTo>
                  <a:lnTo>
                    <a:pt x="463" y="563"/>
                  </a:lnTo>
                  <a:lnTo>
                    <a:pt x="471" y="563"/>
                  </a:lnTo>
                  <a:lnTo>
                    <a:pt x="484" y="564"/>
                  </a:lnTo>
                  <a:lnTo>
                    <a:pt x="502" y="565"/>
                  </a:lnTo>
                  <a:lnTo>
                    <a:pt x="520" y="566"/>
                  </a:lnTo>
                  <a:lnTo>
                    <a:pt x="540" y="566"/>
                  </a:lnTo>
                  <a:lnTo>
                    <a:pt x="559" y="567"/>
                  </a:lnTo>
                  <a:lnTo>
                    <a:pt x="575" y="567"/>
                  </a:lnTo>
                  <a:lnTo>
                    <a:pt x="588" y="56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3840" y="4521240"/>
              <a:ext cx="218160" cy="254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724880" y="1511280"/>
            <a:ext cx="503280" cy="1071720"/>
            <a:chOff x="7724880" y="1511280"/>
            <a:chExt cx="503280" cy="1071720"/>
          </a:xfrm>
        </p:grpSpPr>
        <p:sp>
          <p:nvSpPr>
            <p:cNvPr id="158" name=""/>
            <p:cNvSpPr/>
            <p:nvPr/>
          </p:nvSpPr>
          <p:spPr>
            <a:xfrm>
              <a:off x="7724880" y="1693800"/>
              <a:ext cx="503280" cy="889200"/>
            </a:xfrm>
            <a:custGeom>
              <a:avLst/>
              <a:gdLst/>
              <a:ahLst/>
              <a:rect l="l" t="t" r="r" b="b"/>
              <a:pathLst>
                <a:path w="588" h="1258">
                  <a:moveTo>
                    <a:pt x="588" y="566"/>
                  </a:moveTo>
                  <a:lnTo>
                    <a:pt x="585" y="523"/>
                  </a:lnTo>
                  <a:lnTo>
                    <a:pt x="576" y="458"/>
                  </a:lnTo>
                  <a:lnTo>
                    <a:pt x="568" y="390"/>
                  </a:lnTo>
                  <a:lnTo>
                    <a:pt x="565" y="343"/>
                  </a:lnTo>
                  <a:lnTo>
                    <a:pt x="564" y="323"/>
                  </a:lnTo>
                  <a:lnTo>
                    <a:pt x="559" y="293"/>
                  </a:lnTo>
                  <a:lnTo>
                    <a:pt x="553" y="258"/>
                  </a:lnTo>
                  <a:lnTo>
                    <a:pt x="547" y="220"/>
                  </a:lnTo>
                  <a:lnTo>
                    <a:pt x="539" y="182"/>
                  </a:lnTo>
                  <a:lnTo>
                    <a:pt x="530" y="146"/>
                  </a:lnTo>
                  <a:lnTo>
                    <a:pt x="525" y="116"/>
                  </a:lnTo>
                  <a:lnTo>
                    <a:pt x="519" y="96"/>
                  </a:lnTo>
                  <a:lnTo>
                    <a:pt x="513" y="84"/>
                  </a:lnTo>
                  <a:lnTo>
                    <a:pt x="503" y="69"/>
                  </a:lnTo>
                  <a:lnTo>
                    <a:pt x="489" y="55"/>
                  </a:lnTo>
                  <a:lnTo>
                    <a:pt x="473" y="40"/>
                  </a:lnTo>
                  <a:lnTo>
                    <a:pt x="456" y="27"/>
                  </a:lnTo>
                  <a:lnTo>
                    <a:pt x="440" y="16"/>
                  </a:lnTo>
                  <a:lnTo>
                    <a:pt x="422" y="7"/>
                  </a:lnTo>
                  <a:lnTo>
                    <a:pt x="408" y="1"/>
                  </a:lnTo>
                  <a:lnTo>
                    <a:pt x="407" y="1"/>
                  </a:lnTo>
                  <a:lnTo>
                    <a:pt x="406" y="0"/>
                  </a:lnTo>
                  <a:lnTo>
                    <a:pt x="404" y="0"/>
                  </a:lnTo>
                  <a:lnTo>
                    <a:pt x="403" y="0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2"/>
                  </a:lnTo>
                  <a:lnTo>
                    <a:pt x="274" y="327"/>
                  </a:lnTo>
                  <a:lnTo>
                    <a:pt x="183" y="5"/>
                  </a:lnTo>
                  <a:lnTo>
                    <a:pt x="175" y="7"/>
                  </a:lnTo>
                  <a:lnTo>
                    <a:pt x="168" y="9"/>
                  </a:lnTo>
                  <a:lnTo>
                    <a:pt x="160" y="10"/>
                  </a:lnTo>
                  <a:lnTo>
                    <a:pt x="152" y="12"/>
                  </a:lnTo>
                  <a:lnTo>
                    <a:pt x="140" y="17"/>
                  </a:lnTo>
                  <a:lnTo>
                    <a:pt x="129" y="25"/>
                  </a:lnTo>
                  <a:lnTo>
                    <a:pt x="117" y="35"/>
                  </a:lnTo>
                  <a:lnTo>
                    <a:pt x="107" y="48"/>
                  </a:lnTo>
                  <a:lnTo>
                    <a:pt x="97" y="61"/>
                  </a:lnTo>
                  <a:lnTo>
                    <a:pt x="89" y="74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1" y="114"/>
                  </a:lnTo>
                  <a:lnTo>
                    <a:pt x="67" y="133"/>
                  </a:lnTo>
                  <a:lnTo>
                    <a:pt x="62" y="155"/>
                  </a:lnTo>
                  <a:lnTo>
                    <a:pt x="58" y="179"/>
                  </a:lnTo>
                  <a:lnTo>
                    <a:pt x="52" y="205"/>
                  </a:lnTo>
                  <a:lnTo>
                    <a:pt x="47" y="229"/>
                  </a:lnTo>
                  <a:lnTo>
                    <a:pt x="43" y="252"/>
                  </a:lnTo>
                  <a:lnTo>
                    <a:pt x="38" y="271"/>
                  </a:lnTo>
                  <a:lnTo>
                    <a:pt x="31" y="324"/>
                  </a:lnTo>
                  <a:lnTo>
                    <a:pt x="25" y="399"/>
                  </a:lnTo>
                  <a:lnTo>
                    <a:pt x="21" y="471"/>
                  </a:lnTo>
                  <a:lnTo>
                    <a:pt x="15" y="513"/>
                  </a:lnTo>
                  <a:lnTo>
                    <a:pt x="12" y="533"/>
                  </a:lnTo>
                  <a:lnTo>
                    <a:pt x="9" y="550"/>
                  </a:lnTo>
                  <a:lnTo>
                    <a:pt x="8" y="561"/>
                  </a:lnTo>
                  <a:lnTo>
                    <a:pt x="8" y="566"/>
                  </a:lnTo>
                  <a:lnTo>
                    <a:pt x="137" y="566"/>
                  </a:lnTo>
                  <a:lnTo>
                    <a:pt x="0" y="1258"/>
                  </a:lnTo>
                  <a:lnTo>
                    <a:pt x="186" y="1258"/>
                  </a:lnTo>
                  <a:lnTo>
                    <a:pt x="299" y="753"/>
                  </a:lnTo>
                  <a:lnTo>
                    <a:pt x="301" y="770"/>
                  </a:lnTo>
                  <a:lnTo>
                    <a:pt x="308" y="816"/>
                  </a:lnTo>
                  <a:lnTo>
                    <a:pt x="319" y="883"/>
                  </a:lnTo>
                  <a:lnTo>
                    <a:pt x="330" y="963"/>
                  </a:lnTo>
                  <a:lnTo>
                    <a:pt x="344" y="1048"/>
                  </a:lnTo>
                  <a:lnTo>
                    <a:pt x="358" y="1130"/>
                  </a:lnTo>
                  <a:lnTo>
                    <a:pt x="371" y="1202"/>
                  </a:lnTo>
                  <a:lnTo>
                    <a:pt x="382" y="1253"/>
                  </a:lnTo>
                  <a:lnTo>
                    <a:pt x="389" y="1253"/>
                  </a:lnTo>
                  <a:lnTo>
                    <a:pt x="397" y="1253"/>
                  </a:lnTo>
                  <a:lnTo>
                    <a:pt x="406" y="1253"/>
                  </a:lnTo>
                  <a:lnTo>
                    <a:pt x="417" y="1253"/>
                  </a:lnTo>
                  <a:lnTo>
                    <a:pt x="429" y="1253"/>
                  </a:lnTo>
                  <a:lnTo>
                    <a:pt x="442" y="1253"/>
                  </a:lnTo>
                  <a:lnTo>
                    <a:pt x="456" y="1253"/>
                  </a:lnTo>
                  <a:lnTo>
                    <a:pt x="469" y="1253"/>
                  </a:lnTo>
                  <a:lnTo>
                    <a:pt x="483" y="1253"/>
                  </a:lnTo>
                  <a:lnTo>
                    <a:pt x="498" y="1253"/>
                  </a:lnTo>
                  <a:lnTo>
                    <a:pt x="513" y="1253"/>
                  </a:lnTo>
                  <a:lnTo>
                    <a:pt x="527" y="1253"/>
                  </a:lnTo>
                  <a:lnTo>
                    <a:pt x="542" y="1253"/>
                  </a:lnTo>
                  <a:lnTo>
                    <a:pt x="555" y="1253"/>
                  </a:lnTo>
                  <a:lnTo>
                    <a:pt x="568" y="1253"/>
                  </a:lnTo>
                  <a:lnTo>
                    <a:pt x="580" y="1253"/>
                  </a:lnTo>
                  <a:lnTo>
                    <a:pt x="572" y="1213"/>
                  </a:lnTo>
                  <a:lnTo>
                    <a:pt x="557" y="1135"/>
                  </a:lnTo>
                  <a:lnTo>
                    <a:pt x="539" y="1031"/>
                  </a:lnTo>
                  <a:lnTo>
                    <a:pt x="518" y="914"/>
                  </a:lnTo>
                  <a:lnTo>
                    <a:pt x="498" y="796"/>
                  </a:lnTo>
                  <a:lnTo>
                    <a:pt x="481" y="690"/>
                  </a:lnTo>
                  <a:lnTo>
                    <a:pt x="468" y="608"/>
                  </a:lnTo>
                  <a:lnTo>
                    <a:pt x="463" y="563"/>
                  </a:lnTo>
                  <a:lnTo>
                    <a:pt x="471" y="563"/>
                  </a:lnTo>
                  <a:lnTo>
                    <a:pt x="484" y="564"/>
                  </a:lnTo>
                  <a:lnTo>
                    <a:pt x="502" y="565"/>
                  </a:lnTo>
                  <a:lnTo>
                    <a:pt x="520" y="566"/>
                  </a:lnTo>
                  <a:lnTo>
                    <a:pt x="540" y="566"/>
                  </a:lnTo>
                  <a:lnTo>
                    <a:pt x="559" y="567"/>
                  </a:lnTo>
                  <a:lnTo>
                    <a:pt x="575" y="567"/>
                  </a:lnTo>
                  <a:lnTo>
                    <a:pt x="588" y="5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66360" y="1511280"/>
              <a:ext cx="211680" cy="2520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95760" y="2473200"/>
            <a:ext cx="4290840" cy="301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159720" y="4764960"/>
            <a:ext cx="421200" cy="430560"/>
            <a:chOff x="3159720" y="4764960"/>
            <a:chExt cx="421200" cy="430560"/>
          </a:xfrm>
        </p:grpSpPr>
        <p:sp>
          <p:nvSpPr>
            <p:cNvPr id="162" name=""/>
            <p:cNvSpPr/>
            <p:nvPr/>
          </p:nvSpPr>
          <p:spPr>
            <a:xfrm rot="3222600">
              <a:off x="3151440" y="4888800"/>
              <a:ext cx="3999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64040" y="4815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3504960" y="5087880"/>
              <a:ext cx="7596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65480" y="1434600"/>
            <a:ext cx="3028680" cy="2102400"/>
            <a:chOff x="2265480" y="1434600"/>
            <a:chExt cx="3028680" cy="2102400"/>
          </a:xfrm>
        </p:grpSpPr>
        <p:sp>
          <p:nvSpPr>
            <p:cNvPr id="166" name=""/>
            <p:cNvSpPr/>
            <p:nvPr/>
          </p:nvSpPr>
          <p:spPr>
            <a:xfrm flipV="1">
              <a:off x="2266920" y="1434600"/>
              <a:ext cx="2436840" cy="15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5480" y="2957400"/>
              <a:ext cx="447480" cy="5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02320" y="1447920"/>
              <a:ext cx="591840" cy="85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670200" y="2027160"/>
            <a:ext cx="14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86120" y="3261960"/>
            <a:ext cx="3174840" cy="20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781680" y="2413080"/>
            <a:ext cx="649440" cy="42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83560" y="405612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41400" y="564984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16720" y="25509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20680" y="1935000"/>
            <a:ext cx="2212920" cy="39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51320" y="1935000"/>
            <a:ext cx="2550960" cy="3930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11720" y="1935000"/>
            <a:ext cx="2749680" cy="3935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Quality Management System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1600" y="6005520"/>
            <a:ext cx="8006040" cy="3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58840" y="1022400"/>
            <a:ext cx="7693200" cy="3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6240" y="1414440"/>
            <a:ext cx="2152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46640" y="1424160"/>
            <a:ext cx="2695680" cy="304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2520" y="1414440"/>
            <a:ext cx="2578320" cy="31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08480" y="5380200"/>
            <a:ext cx="2666880" cy="30456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process quality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153280" y="2317680"/>
            <a:ext cx="295560" cy="761760"/>
            <a:chOff x="8153280" y="2317680"/>
            <a:chExt cx="295560" cy="761760"/>
          </a:xfrm>
        </p:grpSpPr>
        <p:sp>
          <p:nvSpPr>
            <p:cNvPr id="186" name=""/>
            <p:cNvSpPr/>
            <p:nvPr/>
          </p:nvSpPr>
          <p:spPr>
            <a:xfrm>
              <a:off x="8153280" y="2447280"/>
              <a:ext cx="295560" cy="632160"/>
            </a:xfrm>
            <a:custGeom>
              <a:avLst/>
              <a:gdLst/>
              <a:ahLst/>
              <a:rect l="l" t="t" r="r" b="b"/>
              <a:pathLst>
                <a:path w="588" h="1258">
                  <a:moveTo>
                    <a:pt x="588" y="566"/>
                  </a:moveTo>
                  <a:lnTo>
                    <a:pt x="585" y="523"/>
                  </a:lnTo>
                  <a:lnTo>
                    <a:pt x="576" y="458"/>
                  </a:lnTo>
                  <a:lnTo>
                    <a:pt x="568" y="390"/>
                  </a:lnTo>
                  <a:lnTo>
                    <a:pt x="565" y="343"/>
                  </a:lnTo>
                  <a:lnTo>
                    <a:pt x="564" y="323"/>
                  </a:lnTo>
                  <a:lnTo>
                    <a:pt x="559" y="293"/>
                  </a:lnTo>
                  <a:lnTo>
                    <a:pt x="553" y="258"/>
                  </a:lnTo>
                  <a:lnTo>
                    <a:pt x="547" y="220"/>
                  </a:lnTo>
                  <a:lnTo>
                    <a:pt x="539" y="182"/>
                  </a:lnTo>
                  <a:lnTo>
                    <a:pt x="530" y="146"/>
                  </a:lnTo>
                  <a:lnTo>
                    <a:pt x="525" y="116"/>
                  </a:lnTo>
                  <a:lnTo>
                    <a:pt x="519" y="96"/>
                  </a:lnTo>
                  <a:lnTo>
                    <a:pt x="513" y="84"/>
                  </a:lnTo>
                  <a:lnTo>
                    <a:pt x="503" y="69"/>
                  </a:lnTo>
                  <a:lnTo>
                    <a:pt x="489" y="55"/>
                  </a:lnTo>
                  <a:lnTo>
                    <a:pt x="473" y="40"/>
                  </a:lnTo>
                  <a:lnTo>
                    <a:pt x="456" y="27"/>
                  </a:lnTo>
                  <a:lnTo>
                    <a:pt x="440" y="16"/>
                  </a:lnTo>
                  <a:lnTo>
                    <a:pt x="422" y="7"/>
                  </a:lnTo>
                  <a:lnTo>
                    <a:pt x="408" y="1"/>
                  </a:lnTo>
                  <a:lnTo>
                    <a:pt x="407" y="1"/>
                  </a:lnTo>
                  <a:lnTo>
                    <a:pt x="406" y="0"/>
                  </a:lnTo>
                  <a:lnTo>
                    <a:pt x="404" y="0"/>
                  </a:lnTo>
                  <a:lnTo>
                    <a:pt x="403" y="0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2"/>
                  </a:lnTo>
                  <a:lnTo>
                    <a:pt x="274" y="327"/>
                  </a:lnTo>
                  <a:lnTo>
                    <a:pt x="183" y="5"/>
                  </a:lnTo>
                  <a:lnTo>
                    <a:pt x="175" y="7"/>
                  </a:lnTo>
                  <a:lnTo>
                    <a:pt x="168" y="9"/>
                  </a:lnTo>
                  <a:lnTo>
                    <a:pt x="160" y="10"/>
                  </a:lnTo>
                  <a:lnTo>
                    <a:pt x="152" y="12"/>
                  </a:lnTo>
                  <a:lnTo>
                    <a:pt x="140" y="17"/>
                  </a:lnTo>
                  <a:lnTo>
                    <a:pt x="129" y="25"/>
                  </a:lnTo>
                  <a:lnTo>
                    <a:pt x="117" y="35"/>
                  </a:lnTo>
                  <a:lnTo>
                    <a:pt x="107" y="48"/>
                  </a:lnTo>
                  <a:lnTo>
                    <a:pt x="97" y="61"/>
                  </a:lnTo>
                  <a:lnTo>
                    <a:pt x="89" y="74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1" y="114"/>
                  </a:lnTo>
                  <a:lnTo>
                    <a:pt x="67" y="133"/>
                  </a:lnTo>
                  <a:lnTo>
                    <a:pt x="62" y="155"/>
                  </a:lnTo>
                  <a:lnTo>
                    <a:pt x="58" y="179"/>
                  </a:lnTo>
                  <a:lnTo>
                    <a:pt x="52" y="205"/>
                  </a:lnTo>
                  <a:lnTo>
                    <a:pt x="47" y="229"/>
                  </a:lnTo>
                  <a:lnTo>
                    <a:pt x="43" y="252"/>
                  </a:lnTo>
                  <a:lnTo>
                    <a:pt x="38" y="271"/>
                  </a:lnTo>
                  <a:lnTo>
                    <a:pt x="31" y="324"/>
                  </a:lnTo>
                  <a:lnTo>
                    <a:pt x="25" y="399"/>
                  </a:lnTo>
                  <a:lnTo>
                    <a:pt x="21" y="471"/>
                  </a:lnTo>
                  <a:lnTo>
                    <a:pt x="15" y="513"/>
                  </a:lnTo>
                  <a:lnTo>
                    <a:pt x="12" y="533"/>
                  </a:lnTo>
                  <a:lnTo>
                    <a:pt x="9" y="550"/>
                  </a:lnTo>
                  <a:lnTo>
                    <a:pt x="8" y="561"/>
                  </a:lnTo>
                  <a:lnTo>
                    <a:pt x="8" y="566"/>
                  </a:lnTo>
                  <a:lnTo>
                    <a:pt x="137" y="566"/>
                  </a:lnTo>
                  <a:lnTo>
                    <a:pt x="0" y="1258"/>
                  </a:lnTo>
                  <a:lnTo>
                    <a:pt x="186" y="1258"/>
                  </a:lnTo>
                  <a:lnTo>
                    <a:pt x="299" y="753"/>
                  </a:lnTo>
                  <a:lnTo>
                    <a:pt x="301" y="770"/>
                  </a:lnTo>
                  <a:lnTo>
                    <a:pt x="308" y="816"/>
                  </a:lnTo>
                  <a:lnTo>
                    <a:pt x="319" y="883"/>
                  </a:lnTo>
                  <a:lnTo>
                    <a:pt x="330" y="963"/>
                  </a:lnTo>
                  <a:lnTo>
                    <a:pt x="344" y="1048"/>
                  </a:lnTo>
                  <a:lnTo>
                    <a:pt x="358" y="1130"/>
                  </a:lnTo>
                  <a:lnTo>
                    <a:pt x="371" y="1202"/>
                  </a:lnTo>
                  <a:lnTo>
                    <a:pt x="382" y="1253"/>
                  </a:lnTo>
                  <a:lnTo>
                    <a:pt x="389" y="1253"/>
                  </a:lnTo>
                  <a:lnTo>
                    <a:pt x="397" y="1253"/>
                  </a:lnTo>
                  <a:lnTo>
                    <a:pt x="406" y="1253"/>
                  </a:lnTo>
                  <a:lnTo>
                    <a:pt x="417" y="1253"/>
                  </a:lnTo>
                  <a:lnTo>
                    <a:pt x="429" y="1253"/>
                  </a:lnTo>
                  <a:lnTo>
                    <a:pt x="442" y="1253"/>
                  </a:lnTo>
                  <a:lnTo>
                    <a:pt x="456" y="1253"/>
                  </a:lnTo>
                  <a:lnTo>
                    <a:pt x="469" y="1253"/>
                  </a:lnTo>
                  <a:lnTo>
                    <a:pt x="483" y="1253"/>
                  </a:lnTo>
                  <a:lnTo>
                    <a:pt x="498" y="1253"/>
                  </a:lnTo>
                  <a:lnTo>
                    <a:pt x="513" y="1253"/>
                  </a:lnTo>
                  <a:lnTo>
                    <a:pt x="527" y="1253"/>
                  </a:lnTo>
                  <a:lnTo>
                    <a:pt x="542" y="1253"/>
                  </a:lnTo>
                  <a:lnTo>
                    <a:pt x="555" y="1253"/>
                  </a:lnTo>
                  <a:lnTo>
                    <a:pt x="568" y="1253"/>
                  </a:lnTo>
                  <a:lnTo>
                    <a:pt x="580" y="1253"/>
                  </a:lnTo>
                  <a:lnTo>
                    <a:pt x="572" y="1213"/>
                  </a:lnTo>
                  <a:lnTo>
                    <a:pt x="557" y="1135"/>
                  </a:lnTo>
                  <a:lnTo>
                    <a:pt x="539" y="1031"/>
                  </a:lnTo>
                  <a:lnTo>
                    <a:pt x="518" y="914"/>
                  </a:lnTo>
                  <a:lnTo>
                    <a:pt x="498" y="796"/>
                  </a:lnTo>
                  <a:lnTo>
                    <a:pt x="481" y="690"/>
                  </a:lnTo>
                  <a:lnTo>
                    <a:pt x="468" y="608"/>
                  </a:lnTo>
                  <a:lnTo>
                    <a:pt x="463" y="563"/>
                  </a:lnTo>
                  <a:lnTo>
                    <a:pt x="471" y="563"/>
                  </a:lnTo>
                  <a:lnTo>
                    <a:pt x="484" y="564"/>
                  </a:lnTo>
                  <a:lnTo>
                    <a:pt x="502" y="565"/>
                  </a:lnTo>
                  <a:lnTo>
                    <a:pt x="520" y="566"/>
                  </a:lnTo>
                  <a:lnTo>
                    <a:pt x="540" y="566"/>
                  </a:lnTo>
                  <a:lnTo>
                    <a:pt x="559" y="567"/>
                  </a:lnTo>
                  <a:lnTo>
                    <a:pt x="575" y="567"/>
                  </a:lnTo>
                  <a:lnTo>
                    <a:pt x="588" y="5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36080" y="2317680"/>
              <a:ext cx="124200" cy="179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rot="20686800">
            <a:off x="2060640" y="4106880"/>
            <a:ext cx="1177920" cy="457200"/>
          </a:xfrm>
          <a:prstGeom prst="parallelogram">
            <a:avLst>
              <a:gd name="adj" fmla="val 292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686800">
            <a:off x="1104480" y="3517560"/>
            <a:ext cx="1055880" cy="519120"/>
          </a:xfrm>
          <a:prstGeom prst="parallelogram">
            <a:avLst>
              <a:gd name="adj" fmla="val 28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0686800">
            <a:off x="2070000" y="3230280"/>
            <a:ext cx="1174680" cy="560160"/>
          </a:xfrm>
          <a:prstGeom prst="parallelogram">
            <a:avLst>
              <a:gd name="adj" fmla="val 26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Appointmen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edenti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0686800">
            <a:off x="2035080" y="4903560"/>
            <a:ext cx="1176480" cy="457200"/>
          </a:xfrm>
          <a:prstGeom prst="parallelogram">
            <a:avLst>
              <a:gd name="adj" fmla="val 283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0686800">
            <a:off x="6066000" y="3792240"/>
            <a:ext cx="1031760" cy="761760"/>
          </a:xfrm>
          <a:prstGeom prst="parallelogram">
            <a:avLst>
              <a:gd name="adj" fmla="val 275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asses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0686800">
            <a:off x="6089760" y="4582800"/>
            <a:ext cx="974520" cy="533520"/>
          </a:xfrm>
          <a:prstGeom prst="parallelogram">
            <a:avLst>
              <a:gd name="adj" fmla="val 280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assu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686800">
            <a:off x="7807320" y="3332160"/>
            <a:ext cx="1154160" cy="1295280"/>
          </a:xfrm>
          <a:prstGeom prst="parallelogram">
            <a:avLst>
              <a:gd name="adj" fmla="val 31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evelop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13760" y="2517840"/>
            <a:ext cx="295200" cy="761400"/>
            <a:chOff x="7313760" y="2517840"/>
            <a:chExt cx="295200" cy="761400"/>
          </a:xfrm>
        </p:grpSpPr>
        <p:sp>
          <p:nvSpPr>
            <p:cNvPr id="196" name=""/>
            <p:cNvSpPr/>
            <p:nvPr/>
          </p:nvSpPr>
          <p:spPr>
            <a:xfrm>
              <a:off x="7313760" y="2647440"/>
              <a:ext cx="295200" cy="631800"/>
            </a:xfrm>
            <a:custGeom>
              <a:avLst/>
              <a:gdLst/>
              <a:ahLst/>
              <a:rect l="l" t="t" r="r" b="b"/>
              <a:pathLst>
                <a:path w="588" h="1258">
                  <a:moveTo>
                    <a:pt x="588" y="566"/>
                  </a:moveTo>
                  <a:lnTo>
                    <a:pt x="585" y="523"/>
                  </a:lnTo>
                  <a:lnTo>
                    <a:pt x="576" y="458"/>
                  </a:lnTo>
                  <a:lnTo>
                    <a:pt x="568" y="390"/>
                  </a:lnTo>
                  <a:lnTo>
                    <a:pt x="565" y="343"/>
                  </a:lnTo>
                  <a:lnTo>
                    <a:pt x="564" y="323"/>
                  </a:lnTo>
                  <a:lnTo>
                    <a:pt x="559" y="293"/>
                  </a:lnTo>
                  <a:lnTo>
                    <a:pt x="553" y="258"/>
                  </a:lnTo>
                  <a:lnTo>
                    <a:pt x="547" y="220"/>
                  </a:lnTo>
                  <a:lnTo>
                    <a:pt x="539" y="182"/>
                  </a:lnTo>
                  <a:lnTo>
                    <a:pt x="530" y="146"/>
                  </a:lnTo>
                  <a:lnTo>
                    <a:pt x="525" y="116"/>
                  </a:lnTo>
                  <a:lnTo>
                    <a:pt x="519" y="96"/>
                  </a:lnTo>
                  <a:lnTo>
                    <a:pt x="513" y="84"/>
                  </a:lnTo>
                  <a:lnTo>
                    <a:pt x="503" y="69"/>
                  </a:lnTo>
                  <a:lnTo>
                    <a:pt x="489" y="55"/>
                  </a:lnTo>
                  <a:lnTo>
                    <a:pt x="473" y="40"/>
                  </a:lnTo>
                  <a:lnTo>
                    <a:pt x="456" y="27"/>
                  </a:lnTo>
                  <a:lnTo>
                    <a:pt x="440" y="16"/>
                  </a:lnTo>
                  <a:lnTo>
                    <a:pt x="422" y="7"/>
                  </a:lnTo>
                  <a:lnTo>
                    <a:pt x="408" y="1"/>
                  </a:lnTo>
                  <a:lnTo>
                    <a:pt x="407" y="1"/>
                  </a:lnTo>
                  <a:lnTo>
                    <a:pt x="406" y="0"/>
                  </a:lnTo>
                  <a:lnTo>
                    <a:pt x="404" y="0"/>
                  </a:lnTo>
                  <a:lnTo>
                    <a:pt x="403" y="0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2"/>
                  </a:lnTo>
                  <a:lnTo>
                    <a:pt x="274" y="327"/>
                  </a:lnTo>
                  <a:lnTo>
                    <a:pt x="183" y="5"/>
                  </a:lnTo>
                  <a:lnTo>
                    <a:pt x="175" y="7"/>
                  </a:lnTo>
                  <a:lnTo>
                    <a:pt x="168" y="9"/>
                  </a:lnTo>
                  <a:lnTo>
                    <a:pt x="160" y="10"/>
                  </a:lnTo>
                  <a:lnTo>
                    <a:pt x="152" y="12"/>
                  </a:lnTo>
                  <a:lnTo>
                    <a:pt x="140" y="17"/>
                  </a:lnTo>
                  <a:lnTo>
                    <a:pt x="129" y="25"/>
                  </a:lnTo>
                  <a:lnTo>
                    <a:pt x="117" y="35"/>
                  </a:lnTo>
                  <a:lnTo>
                    <a:pt x="107" y="48"/>
                  </a:lnTo>
                  <a:lnTo>
                    <a:pt x="97" y="61"/>
                  </a:lnTo>
                  <a:lnTo>
                    <a:pt x="89" y="74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1" y="114"/>
                  </a:lnTo>
                  <a:lnTo>
                    <a:pt x="67" y="133"/>
                  </a:lnTo>
                  <a:lnTo>
                    <a:pt x="62" y="155"/>
                  </a:lnTo>
                  <a:lnTo>
                    <a:pt x="58" y="179"/>
                  </a:lnTo>
                  <a:lnTo>
                    <a:pt x="52" y="205"/>
                  </a:lnTo>
                  <a:lnTo>
                    <a:pt x="47" y="229"/>
                  </a:lnTo>
                  <a:lnTo>
                    <a:pt x="43" y="252"/>
                  </a:lnTo>
                  <a:lnTo>
                    <a:pt x="38" y="271"/>
                  </a:lnTo>
                  <a:lnTo>
                    <a:pt x="31" y="324"/>
                  </a:lnTo>
                  <a:lnTo>
                    <a:pt x="25" y="399"/>
                  </a:lnTo>
                  <a:lnTo>
                    <a:pt x="21" y="471"/>
                  </a:lnTo>
                  <a:lnTo>
                    <a:pt x="15" y="513"/>
                  </a:lnTo>
                  <a:lnTo>
                    <a:pt x="12" y="533"/>
                  </a:lnTo>
                  <a:lnTo>
                    <a:pt x="9" y="550"/>
                  </a:lnTo>
                  <a:lnTo>
                    <a:pt x="8" y="561"/>
                  </a:lnTo>
                  <a:lnTo>
                    <a:pt x="8" y="566"/>
                  </a:lnTo>
                  <a:lnTo>
                    <a:pt x="137" y="566"/>
                  </a:lnTo>
                  <a:lnTo>
                    <a:pt x="0" y="1258"/>
                  </a:lnTo>
                  <a:lnTo>
                    <a:pt x="186" y="1258"/>
                  </a:lnTo>
                  <a:lnTo>
                    <a:pt x="299" y="753"/>
                  </a:lnTo>
                  <a:lnTo>
                    <a:pt x="301" y="770"/>
                  </a:lnTo>
                  <a:lnTo>
                    <a:pt x="308" y="816"/>
                  </a:lnTo>
                  <a:lnTo>
                    <a:pt x="319" y="883"/>
                  </a:lnTo>
                  <a:lnTo>
                    <a:pt x="330" y="963"/>
                  </a:lnTo>
                  <a:lnTo>
                    <a:pt x="344" y="1048"/>
                  </a:lnTo>
                  <a:lnTo>
                    <a:pt x="358" y="1130"/>
                  </a:lnTo>
                  <a:lnTo>
                    <a:pt x="371" y="1202"/>
                  </a:lnTo>
                  <a:lnTo>
                    <a:pt x="382" y="1253"/>
                  </a:lnTo>
                  <a:lnTo>
                    <a:pt x="389" y="1253"/>
                  </a:lnTo>
                  <a:lnTo>
                    <a:pt x="397" y="1253"/>
                  </a:lnTo>
                  <a:lnTo>
                    <a:pt x="406" y="1253"/>
                  </a:lnTo>
                  <a:lnTo>
                    <a:pt x="417" y="1253"/>
                  </a:lnTo>
                  <a:lnTo>
                    <a:pt x="429" y="1253"/>
                  </a:lnTo>
                  <a:lnTo>
                    <a:pt x="442" y="1253"/>
                  </a:lnTo>
                  <a:lnTo>
                    <a:pt x="456" y="1253"/>
                  </a:lnTo>
                  <a:lnTo>
                    <a:pt x="469" y="1253"/>
                  </a:lnTo>
                  <a:lnTo>
                    <a:pt x="483" y="1253"/>
                  </a:lnTo>
                  <a:lnTo>
                    <a:pt x="498" y="1253"/>
                  </a:lnTo>
                  <a:lnTo>
                    <a:pt x="513" y="1253"/>
                  </a:lnTo>
                  <a:lnTo>
                    <a:pt x="527" y="1253"/>
                  </a:lnTo>
                  <a:lnTo>
                    <a:pt x="542" y="1253"/>
                  </a:lnTo>
                  <a:lnTo>
                    <a:pt x="555" y="1253"/>
                  </a:lnTo>
                  <a:lnTo>
                    <a:pt x="568" y="1253"/>
                  </a:lnTo>
                  <a:lnTo>
                    <a:pt x="580" y="1253"/>
                  </a:lnTo>
                  <a:lnTo>
                    <a:pt x="572" y="1213"/>
                  </a:lnTo>
                  <a:lnTo>
                    <a:pt x="557" y="1135"/>
                  </a:lnTo>
                  <a:lnTo>
                    <a:pt x="539" y="1031"/>
                  </a:lnTo>
                  <a:lnTo>
                    <a:pt x="518" y="914"/>
                  </a:lnTo>
                  <a:lnTo>
                    <a:pt x="498" y="796"/>
                  </a:lnTo>
                  <a:lnTo>
                    <a:pt x="481" y="690"/>
                  </a:lnTo>
                  <a:lnTo>
                    <a:pt x="468" y="608"/>
                  </a:lnTo>
                  <a:lnTo>
                    <a:pt x="463" y="563"/>
                  </a:lnTo>
                  <a:lnTo>
                    <a:pt x="471" y="563"/>
                  </a:lnTo>
                  <a:lnTo>
                    <a:pt x="484" y="564"/>
                  </a:lnTo>
                  <a:lnTo>
                    <a:pt x="502" y="565"/>
                  </a:lnTo>
                  <a:lnTo>
                    <a:pt x="520" y="566"/>
                  </a:lnTo>
                  <a:lnTo>
                    <a:pt x="540" y="566"/>
                  </a:lnTo>
                  <a:lnTo>
                    <a:pt x="559" y="567"/>
                  </a:lnTo>
                  <a:lnTo>
                    <a:pt x="575" y="567"/>
                  </a:lnTo>
                  <a:lnTo>
                    <a:pt x="588" y="5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6560" y="2517840"/>
              <a:ext cx="124200" cy="179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388200" y="2784600"/>
            <a:ext cx="295200" cy="761400"/>
            <a:chOff x="6388200" y="2784600"/>
            <a:chExt cx="295200" cy="761400"/>
          </a:xfrm>
        </p:grpSpPr>
        <p:sp>
          <p:nvSpPr>
            <p:cNvPr id="199" name=""/>
            <p:cNvSpPr/>
            <p:nvPr/>
          </p:nvSpPr>
          <p:spPr>
            <a:xfrm>
              <a:off x="6388200" y="2914200"/>
              <a:ext cx="295200" cy="631800"/>
            </a:xfrm>
            <a:custGeom>
              <a:avLst/>
              <a:gdLst/>
              <a:ahLst/>
              <a:rect l="l" t="t" r="r" b="b"/>
              <a:pathLst>
                <a:path w="588" h="1258">
                  <a:moveTo>
                    <a:pt x="588" y="566"/>
                  </a:moveTo>
                  <a:lnTo>
                    <a:pt x="585" y="523"/>
                  </a:lnTo>
                  <a:lnTo>
                    <a:pt x="576" y="458"/>
                  </a:lnTo>
                  <a:lnTo>
                    <a:pt x="568" y="390"/>
                  </a:lnTo>
                  <a:lnTo>
                    <a:pt x="565" y="343"/>
                  </a:lnTo>
                  <a:lnTo>
                    <a:pt x="564" y="323"/>
                  </a:lnTo>
                  <a:lnTo>
                    <a:pt x="559" y="293"/>
                  </a:lnTo>
                  <a:lnTo>
                    <a:pt x="553" y="258"/>
                  </a:lnTo>
                  <a:lnTo>
                    <a:pt x="547" y="220"/>
                  </a:lnTo>
                  <a:lnTo>
                    <a:pt x="539" y="182"/>
                  </a:lnTo>
                  <a:lnTo>
                    <a:pt x="530" y="146"/>
                  </a:lnTo>
                  <a:lnTo>
                    <a:pt x="525" y="116"/>
                  </a:lnTo>
                  <a:lnTo>
                    <a:pt x="519" y="96"/>
                  </a:lnTo>
                  <a:lnTo>
                    <a:pt x="513" y="84"/>
                  </a:lnTo>
                  <a:lnTo>
                    <a:pt x="503" y="69"/>
                  </a:lnTo>
                  <a:lnTo>
                    <a:pt x="489" y="55"/>
                  </a:lnTo>
                  <a:lnTo>
                    <a:pt x="473" y="40"/>
                  </a:lnTo>
                  <a:lnTo>
                    <a:pt x="456" y="27"/>
                  </a:lnTo>
                  <a:lnTo>
                    <a:pt x="440" y="16"/>
                  </a:lnTo>
                  <a:lnTo>
                    <a:pt x="422" y="7"/>
                  </a:lnTo>
                  <a:lnTo>
                    <a:pt x="408" y="1"/>
                  </a:lnTo>
                  <a:lnTo>
                    <a:pt x="407" y="1"/>
                  </a:lnTo>
                  <a:lnTo>
                    <a:pt x="406" y="0"/>
                  </a:lnTo>
                  <a:lnTo>
                    <a:pt x="404" y="0"/>
                  </a:lnTo>
                  <a:lnTo>
                    <a:pt x="403" y="0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2"/>
                  </a:lnTo>
                  <a:lnTo>
                    <a:pt x="274" y="327"/>
                  </a:lnTo>
                  <a:lnTo>
                    <a:pt x="183" y="5"/>
                  </a:lnTo>
                  <a:lnTo>
                    <a:pt x="175" y="7"/>
                  </a:lnTo>
                  <a:lnTo>
                    <a:pt x="168" y="9"/>
                  </a:lnTo>
                  <a:lnTo>
                    <a:pt x="160" y="10"/>
                  </a:lnTo>
                  <a:lnTo>
                    <a:pt x="152" y="12"/>
                  </a:lnTo>
                  <a:lnTo>
                    <a:pt x="140" y="17"/>
                  </a:lnTo>
                  <a:lnTo>
                    <a:pt x="129" y="25"/>
                  </a:lnTo>
                  <a:lnTo>
                    <a:pt x="117" y="35"/>
                  </a:lnTo>
                  <a:lnTo>
                    <a:pt x="107" y="48"/>
                  </a:lnTo>
                  <a:lnTo>
                    <a:pt x="97" y="61"/>
                  </a:lnTo>
                  <a:lnTo>
                    <a:pt x="89" y="74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1" y="114"/>
                  </a:lnTo>
                  <a:lnTo>
                    <a:pt x="67" y="133"/>
                  </a:lnTo>
                  <a:lnTo>
                    <a:pt x="62" y="155"/>
                  </a:lnTo>
                  <a:lnTo>
                    <a:pt x="58" y="179"/>
                  </a:lnTo>
                  <a:lnTo>
                    <a:pt x="52" y="205"/>
                  </a:lnTo>
                  <a:lnTo>
                    <a:pt x="47" y="229"/>
                  </a:lnTo>
                  <a:lnTo>
                    <a:pt x="43" y="252"/>
                  </a:lnTo>
                  <a:lnTo>
                    <a:pt x="38" y="271"/>
                  </a:lnTo>
                  <a:lnTo>
                    <a:pt x="31" y="324"/>
                  </a:lnTo>
                  <a:lnTo>
                    <a:pt x="25" y="399"/>
                  </a:lnTo>
                  <a:lnTo>
                    <a:pt x="21" y="471"/>
                  </a:lnTo>
                  <a:lnTo>
                    <a:pt x="15" y="513"/>
                  </a:lnTo>
                  <a:lnTo>
                    <a:pt x="12" y="533"/>
                  </a:lnTo>
                  <a:lnTo>
                    <a:pt x="9" y="550"/>
                  </a:lnTo>
                  <a:lnTo>
                    <a:pt x="8" y="561"/>
                  </a:lnTo>
                  <a:lnTo>
                    <a:pt x="8" y="566"/>
                  </a:lnTo>
                  <a:lnTo>
                    <a:pt x="137" y="566"/>
                  </a:lnTo>
                  <a:lnTo>
                    <a:pt x="0" y="1258"/>
                  </a:lnTo>
                  <a:lnTo>
                    <a:pt x="186" y="1258"/>
                  </a:lnTo>
                  <a:lnTo>
                    <a:pt x="299" y="753"/>
                  </a:lnTo>
                  <a:lnTo>
                    <a:pt x="301" y="770"/>
                  </a:lnTo>
                  <a:lnTo>
                    <a:pt x="308" y="816"/>
                  </a:lnTo>
                  <a:lnTo>
                    <a:pt x="319" y="883"/>
                  </a:lnTo>
                  <a:lnTo>
                    <a:pt x="330" y="963"/>
                  </a:lnTo>
                  <a:lnTo>
                    <a:pt x="344" y="1048"/>
                  </a:lnTo>
                  <a:lnTo>
                    <a:pt x="358" y="1130"/>
                  </a:lnTo>
                  <a:lnTo>
                    <a:pt x="371" y="1202"/>
                  </a:lnTo>
                  <a:lnTo>
                    <a:pt x="382" y="1253"/>
                  </a:lnTo>
                  <a:lnTo>
                    <a:pt x="389" y="1253"/>
                  </a:lnTo>
                  <a:lnTo>
                    <a:pt x="397" y="1253"/>
                  </a:lnTo>
                  <a:lnTo>
                    <a:pt x="406" y="1253"/>
                  </a:lnTo>
                  <a:lnTo>
                    <a:pt x="417" y="1253"/>
                  </a:lnTo>
                  <a:lnTo>
                    <a:pt x="429" y="1253"/>
                  </a:lnTo>
                  <a:lnTo>
                    <a:pt x="442" y="1253"/>
                  </a:lnTo>
                  <a:lnTo>
                    <a:pt x="456" y="1253"/>
                  </a:lnTo>
                  <a:lnTo>
                    <a:pt x="469" y="1253"/>
                  </a:lnTo>
                  <a:lnTo>
                    <a:pt x="483" y="1253"/>
                  </a:lnTo>
                  <a:lnTo>
                    <a:pt x="498" y="1253"/>
                  </a:lnTo>
                  <a:lnTo>
                    <a:pt x="513" y="1253"/>
                  </a:lnTo>
                  <a:lnTo>
                    <a:pt x="527" y="1253"/>
                  </a:lnTo>
                  <a:lnTo>
                    <a:pt x="542" y="1253"/>
                  </a:lnTo>
                  <a:lnTo>
                    <a:pt x="555" y="1253"/>
                  </a:lnTo>
                  <a:lnTo>
                    <a:pt x="568" y="1253"/>
                  </a:lnTo>
                  <a:lnTo>
                    <a:pt x="580" y="1253"/>
                  </a:lnTo>
                  <a:lnTo>
                    <a:pt x="572" y="1213"/>
                  </a:lnTo>
                  <a:lnTo>
                    <a:pt x="557" y="1135"/>
                  </a:lnTo>
                  <a:lnTo>
                    <a:pt x="539" y="1031"/>
                  </a:lnTo>
                  <a:lnTo>
                    <a:pt x="518" y="914"/>
                  </a:lnTo>
                  <a:lnTo>
                    <a:pt x="498" y="796"/>
                  </a:lnTo>
                  <a:lnTo>
                    <a:pt x="481" y="690"/>
                  </a:lnTo>
                  <a:lnTo>
                    <a:pt x="468" y="608"/>
                  </a:lnTo>
                  <a:lnTo>
                    <a:pt x="463" y="563"/>
                  </a:lnTo>
                  <a:lnTo>
                    <a:pt x="471" y="563"/>
                  </a:lnTo>
                  <a:lnTo>
                    <a:pt x="484" y="564"/>
                  </a:lnTo>
                  <a:lnTo>
                    <a:pt x="502" y="565"/>
                  </a:lnTo>
                  <a:lnTo>
                    <a:pt x="520" y="566"/>
                  </a:lnTo>
                  <a:lnTo>
                    <a:pt x="540" y="566"/>
                  </a:lnTo>
                  <a:lnTo>
                    <a:pt x="559" y="567"/>
                  </a:lnTo>
                  <a:lnTo>
                    <a:pt x="575" y="567"/>
                  </a:lnTo>
                  <a:lnTo>
                    <a:pt x="588" y="5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1000" y="2784600"/>
              <a:ext cx="124200" cy="179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170240" y="3855960"/>
            <a:ext cx="228600" cy="609480"/>
            <a:chOff x="4170240" y="3855960"/>
            <a:chExt cx="228600" cy="609480"/>
          </a:xfrm>
        </p:grpSpPr>
        <p:sp>
          <p:nvSpPr>
            <p:cNvPr id="202" name=""/>
            <p:cNvSpPr/>
            <p:nvPr/>
          </p:nvSpPr>
          <p:spPr>
            <a:xfrm>
              <a:off x="4170240" y="3959640"/>
              <a:ext cx="228600" cy="505800"/>
            </a:xfrm>
            <a:custGeom>
              <a:avLst/>
              <a:gdLst/>
              <a:ahLst/>
              <a:rect l="l" t="t" r="r" b="b"/>
              <a:pathLst>
                <a:path w="588" h="1258">
                  <a:moveTo>
                    <a:pt x="588" y="566"/>
                  </a:moveTo>
                  <a:lnTo>
                    <a:pt x="585" y="523"/>
                  </a:lnTo>
                  <a:lnTo>
                    <a:pt x="576" y="458"/>
                  </a:lnTo>
                  <a:lnTo>
                    <a:pt x="568" y="390"/>
                  </a:lnTo>
                  <a:lnTo>
                    <a:pt x="565" y="343"/>
                  </a:lnTo>
                  <a:lnTo>
                    <a:pt x="564" y="323"/>
                  </a:lnTo>
                  <a:lnTo>
                    <a:pt x="559" y="293"/>
                  </a:lnTo>
                  <a:lnTo>
                    <a:pt x="553" y="258"/>
                  </a:lnTo>
                  <a:lnTo>
                    <a:pt x="547" y="220"/>
                  </a:lnTo>
                  <a:lnTo>
                    <a:pt x="539" y="182"/>
                  </a:lnTo>
                  <a:lnTo>
                    <a:pt x="530" y="146"/>
                  </a:lnTo>
                  <a:lnTo>
                    <a:pt x="525" y="116"/>
                  </a:lnTo>
                  <a:lnTo>
                    <a:pt x="519" y="96"/>
                  </a:lnTo>
                  <a:lnTo>
                    <a:pt x="513" y="84"/>
                  </a:lnTo>
                  <a:lnTo>
                    <a:pt x="503" y="69"/>
                  </a:lnTo>
                  <a:lnTo>
                    <a:pt x="489" y="55"/>
                  </a:lnTo>
                  <a:lnTo>
                    <a:pt x="473" y="40"/>
                  </a:lnTo>
                  <a:lnTo>
                    <a:pt x="456" y="27"/>
                  </a:lnTo>
                  <a:lnTo>
                    <a:pt x="440" y="16"/>
                  </a:lnTo>
                  <a:lnTo>
                    <a:pt x="422" y="7"/>
                  </a:lnTo>
                  <a:lnTo>
                    <a:pt x="408" y="1"/>
                  </a:lnTo>
                  <a:lnTo>
                    <a:pt x="407" y="1"/>
                  </a:lnTo>
                  <a:lnTo>
                    <a:pt x="406" y="0"/>
                  </a:lnTo>
                  <a:lnTo>
                    <a:pt x="404" y="0"/>
                  </a:lnTo>
                  <a:lnTo>
                    <a:pt x="403" y="0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2"/>
                  </a:lnTo>
                  <a:lnTo>
                    <a:pt x="274" y="327"/>
                  </a:lnTo>
                  <a:lnTo>
                    <a:pt x="183" y="5"/>
                  </a:lnTo>
                  <a:lnTo>
                    <a:pt x="175" y="7"/>
                  </a:lnTo>
                  <a:lnTo>
                    <a:pt x="168" y="9"/>
                  </a:lnTo>
                  <a:lnTo>
                    <a:pt x="160" y="10"/>
                  </a:lnTo>
                  <a:lnTo>
                    <a:pt x="152" y="12"/>
                  </a:lnTo>
                  <a:lnTo>
                    <a:pt x="140" y="17"/>
                  </a:lnTo>
                  <a:lnTo>
                    <a:pt x="129" y="25"/>
                  </a:lnTo>
                  <a:lnTo>
                    <a:pt x="117" y="35"/>
                  </a:lnTo>
                  <a:lnTo>
                    <a:pt x="107" y="48"/>
                  </a:lnTo>
                  <a:lnTo>
                    <a:pt x="97" y="61"/>
                  </a:lnTo>
                  <a:lnTo>
                    <a:pt x="89" y="74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1" y="114"/>
                  </a:lnTo>
                  <a:lnTo>
                    <a:pt x="67" y="133"/>
                  </a:lnTo>
                  <a:lnTo>
                    <a:pt x="62" y="155"/>
                  </a:lnTo>
                  <a:lnTo>
                    <a:pt x="58" y="179"/>
                  </a:lnTo>
                  <a:lnTo>
                    <a:pt x="52" y="205"/>
                  </a:lnTo>
                  <a:lnTo>
                    <a:pt x="47" y="229"/>
                  </a:lnTo>
                  <a:lnTo>
                    <a:pt x="43" y="252"/>
                  </a:lnTo>
                  <a:lnTo>
                    <a:pt x="38" y="271"/>
                  </a:lnTo>
                  <a:lnTo>
                    <a:pt x="31" y="324"/>
                  </a:lnTo>
                  <a:lnTo>
                    <a:pt x="25" y="399"/>
                  </a:lnTo>
                  <a:lnTo>
                    <a:pt x="21" y="471"/>
                  </a:lnTo>
                  <a:lnTo>
                    <a:pt x="15" y="513"/>
                  </a:lnTo>
                  <a:lnTo>
                    <a:pt x="12" y="533"/>
                  </a:lnTo>
                  <a:lnTo>
                    <a:pt x="9" y="550"/>
                  </a:lnTo>
                  <a:lnTo>
                    <a:pt x="8" y="561"/>
                  </a:lnTo>
                  <a:lnTo>
                    <a:pt x="8" y="566"/>
                  </a:lnTo>
                  <a:lnTo>
                    <a:pt x="137" y="566"/>
                  </a:lnTo>
                  <a:lnTo>
                    <a:pt x="0" y="1258"/>
                  </a:lnTo>
                  <a:lnTo>
                    <a:pt x="186" y="1258"/>
                  </a:lnTo>
                  <a:lnTo>
                    <a:pt x="299" y="753"/>
                  </a:lnTo>
                  <a:lnTo>
                    <a:pt x="301" y="770"/>
                  </a:lnTo>
                  <a:lnTo>
                    <a:pt x="308" y="816"/>
                  </a:lnTo>
                  <a:lnTo>
                    <a:pt x="319" y="883"/>
                  </a:lnTo>
                  <a:lnTo>
                    <a:pt x="330" y="963"/>
                  </a:lnTo>
                  <a:lnTo>
                    <a:pt x="344" y="1048"/>
                  </a:lnTo>
                  <a:lnTo>
                    <a:pt x="358" y="1130"/>
                  </a:lnTo>
                  <a:lnTo>
                    <a:pt x="371" y="1202"/>
                  </a:lnTo>
                  <a:lnTo>
                    <a:pt x="382" y="1253"/>
                  </a:lnTo>
                  <a:lnTo>
                    <a:pt x="389" y="1253"/>
                  </a:lnTo>
                  <a:lnTo>
                    <a:pt x="397" y="1253"/>
                  </a:lnTo>
                  <a:lnTo>
                    <a:pt x="406" y="1253"/>
                  </a:lnTo>
                  <a:lnTo>
                    <a:pt x="417" y="1253"/>
                  </a:lnTo>
                  <a:lnTo>
                    <a:pt x="429" y="1253"/>
                  </a:lnTo>
                  <a:lnTo>
                    <a:pt x="442" y="1253"/>
                  </a:lnTo>
                  <a:lnTo>
                    <a:pt x="456" y="1253"/>
                  </a:lnTo>
                  <a:lnTo>
                    <a:pt x="469" y="1253"/>
                  </a:lnTo>
                  <a:lnTo>
                    <a:pt x="483" y="1253"/>
                  </a:lnTo>
                  <a:lnTo>
                    <a:pt x="498" y="1253"/>
                  </a:lnTo>
                  <a:lnTo>
                    <a:pt x="513" y="1253"/>
                  </a:lnTo>
                  <a:lnTo>
                    <a:pt x="527" y="1253"/>
                  </a:lnTo>
                  <a:lnTo>
                    <a:pt x="542" y="1253"/>
                  </a:lnTo>
                  <a:lnTo>
                    <a:pt x="555" y="1253"/>
                  </a:lnTo>
                  <a:lnTo>
                    <a:pt x="568" y="1253"/>
                  </a:lnTo>
                  <a:lnTo>
                    <a:pt x="580" y="1253"/>
                  </a:lnTo>
                  <a:lnTo>
                    <a:pt x="572" y="1213"/>
                  </a:lnTo>
                  <a:lnTo>
                    <a:pt x="557" y="1135"/>
                  </a:lnTo>
                  <a:lnTo>
                    <a:pt x="539" y="1031"/>
                  </a:lnTo>
                  <a:lnTo>
                    <a:pt x="518" y="914"/>
                  </a:lnTo>
                  <a:lnTo>
                    <a:pt x="498" y="796"/>
                  </a:lnTo>
                  <a:lnTo>
                    <a:pt x="481" y="690"/>
                  </a:lnTo>
                  <a:lnTo>
                    <a:pt x="468" y="608"/>
                  </a:lnTo>
                  <a:lnTo>
                    <a:pt x="463" y="563"/>
                  </a:lnTo>
                  <a:lnTo>
                    <a:pt x="471" y="563"/>
                  </a:lnTo>
                  <a:lnTo>
                    <a:pt x="484" y="564"/>
                  </a:lnTo>
                  <a:lnTo>
                    <a:pt x="502" y="565"/>
                  </a:lnTo>
                  <a:lnTo>
                    <a:pt x="520" y="566"/>
                  </a:lnTo>
                  <a:lnTo>
                    <a:pt x="540" y="566"/>
                  </a:lnTo>
                  <a:lnTo>
                    <a:pt x="559" y="567"/>
                  </a:lnTo>
                  <a:lnTo>
                    <a:pt x="575" y="567"/>
                  </a:lnTo>
                  <a:lnTo>
                    <a:pt x="588" y="5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4320" y="3855960"/>
              <a:ext cx="96120" cy="143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084640" y="3551400"/>
            <a:ext cx="228600" cy="609480"/>
            <a:chOff x="5084640" y="3551400"/>
            <a:chExt cx="228600" cy="609480"/>
          </a:xfrm>
        </p:grpSpPr>
        <p:sp>
          <p:nvSpPr>
            <p:cNvPr id="205" name=""/>
            <p:cNvSpPr/>
            <p:nvPr/>
          </p:nvSpPr>
          <p:spPr>
            <a:xfrm>
              <a:off x="5084640" y="3655080"/>
              <a:ext cx="228600" cy="505800"/>
            </a:xfrm>
            <a:custGeom>
              <a:avLst/>
              <a:gdLst/>
              <a:ahLst/>
              <a:rect l="l" t="t" r="r" b="b"/>
              <a:pathLst>
                <a:path w="588" h="1258">
                  <a:moveTo>
                    <a:pt x="588" y="566"/>
                  </a:moveTo>
                  <a:lnTo>
                    <a:pt x="585" y="523"/>
                  </a:lnTo>
                  <a:lnTo>
                    <a:pt x="576" y="458"/>
                  </a:lnTo>
                  <a:lnTo>
                    <a:pt x="568" y="390"/>
                  </a:lnTo>
                  <a:lnTo>
                    <a:pt x="565" y="343"/>
                  </a:lnTo>
                  <a:lnTo>
                    <a:pt x="564" y="323"/>
                  </a:lnTo>
                  <a:lnTo>
                    <a:pt x="559" y="293"/>
                  </a:lnTo>
                  <a:lnTo>
                    <a:pt x="553" y="258"/>
                  </a:lnTo>
                  <a:lnTo>
                    <a:pt x="547" y="220"/>
                  </a:lnTo>
                  <a:lnTo>
                    <a:pt x="539" y="182"/>
                  </a:lnTo>
                  <a:lnTo>
                    <a:pt x="530" y="146"/>
                  </a:lnTo>
                  <a:lnTo>
                    <a:pt x="525" y="116"/>
                  </a:lnTo>
                  <a:lnTo>
                    <a:pt x="519" y="96"/>
                  </a:lnTo>
                  <a:lnTo>
                    <a:pt x="513" y="84"/>
                  </a:lnTo>
                  <a:lnTo>
                    <a:pt x="503" y="69"/>
                  </a:lnTo>
                  <a:lnTo>
                    <a:pt x="489" y="55"/>
                  </a:lnTo>
                  <a:lnTo>
                    <a:pt x="473" y="40"/>
                  </a:lnTo>
                  <a:lnTo>
                    <a:pt x="456" y="27"/>
                  </a:lnTo>
                  <a:lnTo>
                    <a:pt x="440" y="16"/>
                  </a:lnTo>
                  <a:lnTo>
                    <a:pt x="422" y="7"/>
                  </a:lnTo>
                  <a:lnTo>
                    <a:pt x="408" y="1"/>
                  </a:lnTo>
                  <a:lnTo>
                    <a:pt x="407" y="1"/>
                  </a:lnTo>
                  <a:lnTo>
                    <a:pt x="406" y="0"/>
                  </a:lnTo>
                  <a:lnTo>
                    <a:pt x="404" y="0"/>
                  </a:lnTo>
                  <a:lnTo>
                    <a:pt x="403" y="0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2"/>
                  </a:lnTo>
                  <a:lnTo>
                    <a:pt x="274" y="327"/>
                  </a:lnTo>
                  <a:lnTo>
                    <a:pt x="183" y="5"/>
                  </a:lnTo>
                  <a:lnTo>
                    <a:pt x="175" y="7"/>
                  </a:lnTo>
                  <a:lnTo>
                    <a:pt x="168" y="9"/>
                  </a:lnTo>
                  <a:lnTo>
                    <a:pt x="160" y="10"/>
                  </a:lnTo>
                  <a:lnTo>
                    <a:pt x="152" y="12"/>
                  </a:lnTo>
                  <a:lnTo>
                    <a:pt x="140" y="17"/>
                  </a:lnTo>
                  <a:lnTo>
                    <a:pt x="129" y="25"/>
                  </a:lnTo>
                  <a:lnTo>
                    <a:pt x="117" y="35"/>
                  </a:lnTo>
                  <a:lnTo>
                    <a:pt x="107" y="48"/>
                  </a:lnTo>
                  <a:lnTo>
                    <a:pt x="97" y="61"/>
                  </a:lnTo>
                  <a:lnTo>
                    <a:pt x="89" y="74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1" y="114"/>
                  </a:lnTo>
                  <a:lnTo>
                    <a:pt x="67" y="133"/>
                  </a:lnTo>
                  <a:lnTo>
                    <a:pt x="62" y="155"/>
                  </a:lnTo>
                  <a:lnTo>
                    <a:pt x="58" y="179"/>
                  </a:lnTo>
                  <a:lnTo>
                    <a:pt x="52" y="205"/>
                  </a:lnTo>
                  <a:lnTo>
                    <a:pt x="47" y="229"/>
                  </a:lnTo>
                  <a:lnTo>
                    <a:pt x="43" y="252"/>
                  </a:lnTo>
                  <a:lnTo>
                    <a:pt x="38" y="271"/>
                  </a:lnTo>
                  <a:lnTo>
                    <a:pt x="31" y="324"/>
                  </a:lnTo>
                  <a:lnTo>
                    <a:pt x="25" y="399"/>
                  </a:lnTo>
                  <a:lnTo>
                    <a:pt x="21" y="471"/>
                  </a:lnTo>
                  <a:lnTo>
                    <a:pt x="15" y="513"/>
                  </a:lnTo>
                  <a:lnTo>
                    <a:pt x="12" y="533"/>
                  </a:lnTo>
                  <a:lnTo>
                    <a:pt x="9" y="550"/>
                  </a:lnTo>
                  <a:lnTo>
                    <a:pt x="8" y="561"/>
                  </a:lnTo>
                  <a:lnTo>
                    <a:pt x="8" y="566"/>
                  </a:lnTo>
                  <a:lnTo>
                    <a:pt x="137" y="566"/>
                  </a:lnTo>
                  <a:lnTo>
                    <a:pt x="0" y="1258"/>
                  </a:lnTo>
                  <a:lnTo>
                    <a:pt x="186" y="1258"/>
                  </a:lnTo>
                  <a:lnTo>
                    <a:pt x="299" y="753"/>
                  </a:lnTo>
                  <a:lnTo>
                    <a:pt x="301" y="770"/>
                  </a:lnTo>
                  <a:lnTo>
                    <a:pt x="308" y="816"/>
                  </a:lnTo>
                  <a:lnTo>
                    <a:pt x="319" y="883"/>
                  </a:lnTo>
                  <a:lnTo>
                    <a:pt x="330" y="963"/>
                  </a:lnTo>
                  <a:lnTo>
                    <a:pt x="344" y="1048"/>
                  </a:lnTo>
                  <a:lnTo>
                    <a:pt x="358" y="1130"/>
                  </a:lnTo>
                  <a:lnTo>
                    <a:pt x="371" y="1202"/>
                  </a:lnTo>
                  <a:lnTo>
                    <a:pt x="382" y="1253"/>
                  </a:lnTo>
                  <a:lnTo>
                    <a:pt x="389" y="1253"/>
                  </a:lnTo>
                  <a:lnTo>
                    <a:pt x="397" y="1253"/>
                  </a:lnTo>
                  <a:lnTo>
                    <a:pt x="406" y="1253"/>
                  </a:lnTo>
                  <a:lnTo>
                    <a:pt x="417" y="1253"/>
                  </a:lnTo>
                  <a:lnTo>
                    <a:pt x="429" y="1253"/>
                  </a:lnTo>
                  <a:lnTo>
                    <a:pt x="442" y="1253"/>
                  </a:lnTo>
                  <a:lnTo>
                    <a:pt x="456" y="1253"/>
                  </a:lnTo>
                  <a:lnTo>
                    <a:pt x="469" y="1253"/>
                  </a:lnTo>
                  <a:lnTo>
                    <a:pt x="483" y="1253"/>
                  </a:lnTo>
                  <a:lnTo>
                    <a:pt x="498" y="1253"/>
                  </a:lnTo>
                  <a:lnTo>
                    <a:pt x="513" y="1253"/>
                  </a:lnTo>
                  <a:lnTo>
                    <a:pt x="527" y="1253"/>
                  </a:lnTo>
                  <a:lnTo>
                    <a:pt x="542" y="1253"/>
                  </a:lnTo>
                  <a:lnTo>
                    <a:pt x="555" y="1253"/>
                  </a:lnTo>
                  <a:lnTo>
                    <a:pt x="568" y="1253"/>
                  </a:lnTo>
                  <a:lnTo>
                    <a:pt x="580" y="1253"/>
                  </a:lnTo>
                  <a:lnTo>
                    <a:pt x="572" y="1213"/>
                  </a:lnTo>
                  <a:lnTo>
                    <a:pt x="557" y="1135"/>
                  </a:lnTo>
                  <a:lnTo>
                    <a:pt x="539" y="1031"/>
                  </a:lnTo>
                  <a:lnTo>
                    <a:pt x="518" y="914"/>
                  </a:lnTo>
                  <a:lnTo>
                    <a:pt x="498" y="796"/>
                  </a:lnTo>
                  <a:lnTo>
                    <a:pt x="481" y="690"/>
                  </a:lnTo>
                  <a:lnTo>
                    <a:pt x="468" y="608"/>
                  </a:lnTo>
                  <a:lnTo>
                    <a:pt x="463" y="563"/>
                  </a:lnTo>
                  <a:lnTo>
                    <a:pt x="471" y="563"/>
                  </a:lnTo>
                  <a:lnTo>
                    <a:pt x="484" y="564"/>
                  </a:lnTo>
                  <a:lnTo>
                    <a:pt x="502" y="565"/>
                  </a:lnTo>
                  <a:lnTo>
                    <a:pt x="520" y="566"/>
                  </a:lnTo>
                  <a:lnTo>
                    <a:pt x="540" y="566"/>
                  </a:lnTo>
                  <a:lnTo>
                    <a:pt x="559" y="567"/>
                  </a:lnTo>
                  <a:lnTo>
                    <a:pt x="575" y="567"/>
                  </a:lnTo>
                  <a:lnTo>
                    <a:pt x="588" y="5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48720" y="3551400"/>
              <a:ext cx="96120" cy="143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6520" y="3186000"/>
            <a:ext cx="2457720" cy="1733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3222600">
            <a:off x="3483000" y="4395240"/>
            <a:ext cx="279360" cy="114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514320" y="430704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692520" y="4554360"/>
            <a:ext cx="7632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841400" y="3025800"/>
            <a:ext cx="6951600" cy="19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891960" y="3376080"/>
            <a:ext cx="447120" cy="442080"/>
            <a:chOff x="3891960" y="3376080"/>
            <a:chExt cx="447120" cy="442080"/>
          </a:xfrm>
        </p:grpSpPr>
        <p:sp>
          <p:nvSpPr>
            <p:cNvPr id="213" name=""/>
            <p:cNvSpPr/>
            <p:nvPr/>
          </p:nvSpPr>
          <p:spPr>
            <a:xfrm rot="8345400">
              <a:off x="3944520" y="3452400"/>
              <a:ext cx="341280" cy="28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0948200">
              <a:off x="4019040" y="3428640"/>
              <a:ext cx="149400" cy="114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983760" y="3484080"/>
              <a:ext cx="8280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7725600">
              <a:off x="4128480" y="341424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61200" y="4216320"/>
            <a:ext cx="408960" cy="319320"/>
            <a:chOff x="3661200" y="4216320"/>
            <a:chExt cx="408960" cy="319320"/>
          </a:xfrm>
        </p:grpSpPr>
        <p:sp>
          <p:nvSpPr>
            <p:cNvPr id="218" name=""/>
            <p:cNvSpPr/>
            <p:nvPr/>
          </p:nvSpPr>
          <p:spPr>
            <a:xfrm>
              <a:off x="3706560" y="4216320"/>
              <a:ext cx="363600" cy="30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3222600">
              <a:off x="3676680" y="4384080"/>
              <a:ext cx="149040" cy="114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765240" y="4462200"/>
              <a:ext cx="66600" cy="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76680" y="435132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532760" y="3959280"/>
            <a:ext cx="408960" cy="319320"/>
            <a:chOff x="4532760" y="3959280"/>
            <a:chExt cx="408960" cy="319320"/>
          </a:xfrm>
        </p:grpSpPr>
        <p:sp>
          <p:nvSpPr>
            <p:cNvPr id="223" name=""/>
            <p:cNvSpPr/>
            <p:nvPr/>
          </p:nvSpPr>
          <p:spPr>
            <a:xfrm>
              <a:off x="4578120" y="3959280"/>
              <a:ext cx="363600" cy="30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3222600">
              <a:off x="4548240" y="4127040"/>
              <a:ext cx="149040" cy="114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636800" y="4205160"/>
              <a:ext cx="66600" cy="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240" y="409428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09000" y="3701880"/>
            <a:ext cx="408960" cy="319320"/>
            <a:chOff x="5409000" y="3701880"/>
            <a:chExt cx="408960" cy="319320"/>
          </a:xfrm>
        </p:grpSpPr>
        <p:sp>
          <p:nvSpPr>
            <p:cNvPr id="228" name=""/>
            <p:cNvSpPr/>
            <p:nvPr/>
          </p:nvSpPr>
          <p:spPr>
            <a:xfrm>
              <a:off x="5454360" y="3701880"/>
              <a:ext cx="363600" cy="30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3222600">
              <a:off x="5424480" y="3869640"/>
              <a:ext cx="149040" cy="114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513040" y="3947760"/>
              <a:ext cx="66600" cy="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24480" y="383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 flipV="1">
            <a:off x="3720960" y="3565080"/>
            <a:ext cx="405000" cy="7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25960" y="3565440"/>
            <a:ext cx="4046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442880" y="4533840"/>
            <a:ext cx="326880" cy="824760"/>
            <a:chOff x="1442880" y="4533840"/>
            <a:chExt cx="326880" cy="824760"/>
          </a:xfrm>
        </p:grpSpPr>
        <p:sp>
          <p:nvSpPr>
            <p:cNvPr id="235" name=""/>
            <p:cNvSpPr/>
            <p:nvPr/>
          </p:nvSpPr>
          <p:spPr>
            <a:xfrm>
              <a:off x="1442880" y="4673520"/>
              <a:ext cx="326880" cy="685080"/>
            </a:xfrm>
            <a:custGeom>
              <a:avLst/>
              <a:gdLst/>
              <a:ahLst/>
              <a:rect l="l" t="t" r="r" b="b"/>
              <a:pathLst>
                <a:path w="588" h="1258">
                  <a:moveTo>
                    <a:pt x="588" y="566"/>
                  </a:moveTo>
                  <a:lnTo>
                    <a:pt x="585" y="523"/>
                  </a:lnTo>
                  <a:lnTo>
                    <a:pt x="576" y="458"/>
                  </a:lnTo>
                  <a:lnTo>
                    <a:pt x="568" y="390"/>
                  </a:lnTo>
                  <a:lnTo>
                    <a:pt x="565" y="343"/>
                  </a:lnTo>
                  <a:lnTo>
                    <a:pt x="564" y="323"/>
                  </a:lnTo>
                  <a:lnTo>
                    <a:pt x="559" y="293"/>
                  </a:lnTo>
                  <a:lnTo>
                    <a:pt x="553" y="258"/>
                  </a:lnTo>
                  <a:lnTo>
                    <a:pt x="547" y="220"/>
                  </a:lnTo>
                  <a:lnTo>
                    <a:pt x="539" y="182"/>
                  </a:lnTo>
                  <a:lnTo>
                    <a:pt x="530" y="146"/>
                  </a:lnTo>
                  <a:lnTo>
                    <a:pt x="525" y="116"/>
                  </a:lnTo>
                  <a:lnTo>
                    <a:pt x="519" y="96"/>
                  </a:lnTo>
                  <a:lnTo>
                    <a:pt x="513" y="84"/>
                  </a:lnTo>
                  <a:lnTo>
                    <a:pt x="503" y="69"/>
                  </a:lnTo>
                  <a:lnTo>
                    <a:pt x="489" y="55"/>
                  </a:lnTo>
                  <a:lnTo>
                    <a:pt x="473" y="40"/>
                  </a:lnTo>
                  <a:lnTo>
                    <a:pt x="456" y="27"/>
                  </a:lnTo>
                  <a:lnTo>
                    <a:pt x="440" y="16"/>
                  </a:lnTo>
                  <a:lnTo>
                    <a:pt x="422" y="7"/>
                  </a:lnTo>
                  <a:lnTo>
                    <a:pt x="408" y="1"/>
                  </a:lnTo>
                  <a:lnTo>
                    <a:pt x="407" y="1"/>
                  </a:lnTo>
                  <a:lnTo>
                    <a:pt x="406" y="0"/>
                  </a:lnTo>
                  <a:lnTo>
                    <a:pt x="404" y="0"/>
                  </a:lnTo>
                  <a:lnTo>
                    <a:pt x="403" y="0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4" y="2"/>
                  </a:lnTo>
                  <a:lnTo>
                    <a:pt x="274" y="327"/>
                  </a:lnTo>
                  <a:lnTo>
                    <a:pt x="183" y="5"/>
                  </a:lnTo>
                  <a:lnTo>
                    <a:pt x="175" y="7"/>
                  </a:lnTo>
                  <a:lnTo>
                    <a:pt x="168" y="9"/>
                  </a:lnTo>
                  <a:lnTo>
                    <a:pt x="160" y="10"/>
                  </a:lnTo>
                  <a:lnTo>
                    <a:pt x="152" y="12"/>
                  </a:lnTo>
                  <a:lnTo>
                    <a:pt x="140" y="17"/>
                  </a:lnTo>
                  <a:lnTo>
                    <a:pt x="129" y="25"/>
                  </a:lnTo>
                  <a:lnTo>
                    <a:pt x="117" y="35"/>
                  </a:lnTo>
                  <a:lnTo>
                    <a:pt x="107" y="48"/>
                  </a:lnTo>
                  <a:lnTo>
                    <a:pt x="97" y="61"/>
                  </a:lnTo>
                  <a:lnTo>
                    <a:pt x="89" y="74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1" y="114"/>
                  </a:lnTo>
                  <a:lnTo>
                    <a:pt x="67" y="133"/>
                  </a:lnTo>
                  <a:lnTo>
                    <a:pt x="62" y="155"/>
                  </a:lnTo>
                  <a:lnTo>
                    <a:pt x="58" y="179"/>
                  </a:lnTo>
                  <a:lnTo>
                    <a:pt x="52" y="205"/>
                  </a:lnTo>
                  <a:lnTo>
                    <a:pt x="47" y="229"/>
                  </a:lnTo>
                  <a:lnTo>
                    <a:pt x="43" y="252"/>
                  </a:lnTo>
                  <a:lnTo>
                    <a:pt x="38" y="271"/>
                  </a:lnTo>
                  <a:lnTo>
                    <a:pt x="31" y="324"/>
                  </a:lnTo>
                  <a:lnTo>
                    <a:pt x="25" y="399"/>
                  </a:lnTo>
                  <a:lnTo>
                    <a:pt x="21" y="471"/>
                  </a:lnTo>
                  <a:lnTo>
                    <a:pt x="15" y="513"/>
                  </a:lnTo>
                  <a:lnTo>
                    <a:pt x="12" y="533"/>
                  </a:lnTo>
                  <a:lnTo>
                    <a:pt x="9" y="550"/>
                  </a:lnTo>
                  <a:lnTo>
                    <a:pt x="8" y="561"/>
                  </a:lnTo>
                  <a:lnTo>
                    <a:pt x="8" y="566"/>
                  </a:lnTo>
                  <a:lnTo>
                    <a:pt x="137" y="566"/>
                  </a:lnTo>
                  <a:lnTo>
                    <a:pt x="0" y="1258"/>
                  </a:lnTo>
                  <a:lnTo>
                    <a:pt x="186" y="1258"/>
                  </a:lnTo>
                  <a:lnTo>
                    <a:pt x="299" y="753"/>
                  </a:lnTo>
                  <a:lnTo>
                    <a:pt x="301" y="770"/>
                  </a:lnTo>
                  <a:lnTo>
                    <a:pt x="308" y="816"/>
                  </a:lnTo>
                  <a:lnTo>
                    <a:pt x="319" y="883"/>
                  </a:lnTo>
                  <a:lnTo>
                    <a:pt x="330" y="963"/>
                  </a:lnTo>
                  <a:lnTo>
                    <a:pt x="344" y="1048"/>
                  </a:lnTo>
                  <a:lnTo>
                    <a:pt x="358" y="1130"/>
                  </a:lnTo>
                  <a:lnTo>
                    <a:pt x="371" y="1202"/>
                  </a:lnTo>
                  <a:lnTo>
                    <a:pt x="382" y="1253"/>
                  </a:lnTo>
                  <a:lnTo>
                    <a:pt x="389" y="1253"/>
                  </a:lnTo>
                  <a:lnTo>
                    <a:pt x="397" y="1253"/>
                  </a:lnTo>
                  <a:lnTo>
                    <a:pt x="406" y="1253"/>
                  </a:lnTo>
                  <a:lnTo>
                    <a:pt x="417" y="1253"/>
                  </a:lnTo>
                  <a:lnTo>
                    <a:pt x="429" y="1253"/>
                  </a:lnTo>
                  <a:lnTo>
                    <a:pt x="442" y="1253"/>
                  </a:lnTo>
                  <a:lnTo>
                    <a:pt x="456" y="1253"/>
                  </a:lnTo>
                  <a:lnTo>
                    <a:pt x="469" y="1253"/>
                  </a:lnTo>
                  <a:lnTo>
                    <a:pt x="483" y="1253"/>
                  </a:lnTo>
                  <a:lnTo>
                    <a:pt x="498" y="1253"/>
                  </a:lnTo>
                  <a:lnTo>
                    <a:pt x="513" y="1253"/>
                  </a:lnTo>
                  <a:lnTo>
                    <a:pt x="527" y="1253"/>
                  </a:lnTo>
                  <a:lnTo>
                    <a:pt x="542" y="1253"/>
                  </a:lnTo>
                  <a:lnTo>
                    <a:pt x="555" y="1253"/>
                  </a:lnTo>
                  <a:lnTo>
                    <a:pt x="568" y="1253"/>
                  </a:lnTo>
                  <a:lnTo>
                    <a:pt x="580" y="1253"/>
                  </a:lnTo>
                  <a:lnTo>
                    <a:pt x="572" y="1213"/>
                  </a:lnTo>
                  <a:lnTo>
                    <a:pt x="557" y="1135"/>
                  </a:lnTo>
                  <a:lnTo>
                    <a:pt x="539" y="1031"/>
                  </a:lnTo>
                  <a:lnTo>
                    <a:pt x="518" y="914"/>
                  </a:lnTo>
                  <a:lnTo>
                    <a:pt x="498" y="796"/>
                  </a:lnTo>
                  <a:lnTo>
                    <a:pt x="481" y="690"/>
                  </a:lnTo>
                  <a:lnTo>
                    <a:pt x="468" y="608"/>
                  </a:lnTo>
                  <a:lnTo>
                    <a:pt x="463" y="563"/>
                  </a:lnTo>
                  <a:lnTo>
                    <a:pt x="471" y="563"/>
                  </a:lnTo>
                  <a:lnTo>
                    <a:pt x="484" y="564"/>
                  </a:lnTo>
                  <a:lnTo>
                    <a:pt x="502" y="565"/>
                  </a:lnTo>
                  <a:lnTo>
                    <a:pt x="520" y="566"/>
                  </a:lnTo>
                  <a:lnTo>
                    <a:pt x="540" y="566"/>
                  </a:lnTo>
                  <a:lnTo>
                    <a:pt x="559" y="567"/>
                  </a:lnTo>
                  <a:lnTo>
                    <a:pt x="575" y="567"/>
                  </a:lnTo>
                  <a:lnTo>
                    <a:pt x="588" y="56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33240" y="4533840"/>
              <a:ext cx="138240" cy="1933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120680" y="534672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8956800" y="2279520"/>
            <a:ext cx="6120" cy="374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680840" y="2271600"/>
            <a:ext cx="72882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81200" y="228276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70120" y="2279520"/>
            <a:ext cx="0" cy="77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39880" y="3809880"/>
            <a:ext cx="0" cy="27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639880" y="5414760"/>
            <a:ext cx="0" cy="59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86480" y="2286000"/>
            <a:ext cx="0" cy="85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936960" y="4572000"/>
            <a:ext cx="0" cy="77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724280" y="4330800"/>
            <a:ext cx="0" cy="105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740560" y="4038480"/>
            <a:ext cx="0" cy="134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06760" y="5689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724800" y="5143680"/>
            <a:ext cx="0" cy="87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591320" y="4939920"/>
            <a:ext cx="324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572680" y="4659120"/>
            <a:ext cx="0" cy="136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8800" y="4680000"/>
            <a:ext cx="6480" cy="125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08720" y="4921200"/>
            <a:ext cx="3240" cy="101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54800" y="5130720"/>
            <a:ext cx="6480" cy="80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20686800">
            <a:off x="6891480" y="3586320"/>
            <a:ext cx="1143000" cy="1296720"/>
          </a:xfrm>
          <a:prstGeom prst="parallelogram">
            <a:avLst>
              <a:gd name="adj" fmla="val 303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Out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measur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214720" y="1719360"/>
            <a:ext cx="0" cy="303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78200" y="1708200"/>
            <a:ext cx="0" cy="303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459560" y="1708200"/>
            <a:ext cx="0" cy="303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81200" y="40384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Information Process Model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04840" y="1143000"/>
            <a:ext cx="7962840" cy="5029200"/>
            <a:chOff x="1104840" y="1143000"/>
            <a:chExt cx="7962840" cy="5029200"/>
          </a:xfrm>
        </p:grpSpPr>
        <p:sp>
          <p:nvSpPr>
            <p:cNvPr id="262" name=""/>
            <p:cNvSpPr/>
            <p:nvPr/>
          </p:nvSpPr>
          <p:spPr>
            <a:xfrm rot="16200000">
              <a:off x="173520" y="3294000"/>
              <a:ext cx="4803840" cy="501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0000">
              <a:off x="6199200" y="3294000"/>
              <a:ext cx="4803840" cy="50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39800" y="5421600"/>
              <a:ext cx="5954040" cy="524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Global 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1640" y="2118600"/>
              <a:ext cx="1506240" cy="600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35160" y="2118600"/>
              <a:ext cx="1506240" cy="600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dit/Cl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8680" y="2118600"/>
              <a:ext cx="1506240" cy="6004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1640" y="4145400"/>
              <a:ext cx="1506240" cy="8258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alyz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35160" y="4145400"/>
              <a:ext cx="1506240" cy="8258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28680" y="4145400"/>
              <a:ext cx="1506240" cy="8258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1640" y="3169440"/>
              <a:ext cx="5093280" cy="5248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ansmit, Translate, Store, Retrie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59120" y="2719080"/>
              <a:ext cx="0" cy="4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59120" y="1667880"/>
              <a:ext cx="0" cy="4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45800" y="1667880"/>
              <a:ext cx="0" cy="4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52640" y="2719080"/>
              <a:ext cx="0" cy="4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45800" y="2719080"/>
              <a:ext cx="0" cy="4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59120" y="3694680"/>
              <a:ext cx="0" cy="4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52640" y="3694680"/>
              <a:ext cx="0" cy="4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759120" y="4970880"/>
              <a:ext cx="0" cy="4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552640" y="4970880"/>
              <a:ext cx="0" cy="4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47880" y="4520880"/>
              <a:ext cx="2869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41760" y="4520880"/>
              <a:ext cx="2869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134920" y="4520880"/>
              <a:ext cx="932040" cy="0"/>
            </a:xfrm>
            <a:prstGeom prst="line">
              <a:avLst/>
            </a:prstGeom>
            <a:ln w="4140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067680" y="4520880"/>
              <a:ext cx="0" cy="1650960"/>
            </a:xfrm>
            <a:prstGeom prst="line">
              <a:avLst/>
            </a:prstGeom>
            <a:ln w="4140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22320" y="3544920"/>
              <a:ext cx="0" cy="2626920"/>
            </a:xfrm>
            <a:prstGeom prst="line">
              <a:avLst/>
            </a:prstGeom>
            <a:ln w="41400">
              <a:solidFill>
                <a:srgbClr val="99cc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822320" y="6172200"/>
              <a:ext cx="7245360" cy="0"/>
            </a:xfrm>
            <a:prstGeom prst="line">
              <a:avLst/>
            </a:prstGeom>
            <a:ln w="4140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39800" y="1143000"/>
              <a:ext cx="5954040" cy="524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Global 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67800" y="1968480"/>
              <a:ext cx="57348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39800" y="2193480"/>
              <a:ext cx="50184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39800" y="2418840"/>
              <a:ext cx="5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39800" y="2493720"/>
              <a:ext cx="50184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467800" y="2568600"/>
              <a:ext cx="57348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04840" y="1292760"/>
              <a:ext cx="1434960" cy="2176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467800" y="2643840"/>
              <a:ext cx="57348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35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f00"/>
                </a:solidFill>
                <a:latin typeface="Arial"/>
              </a:rPr>
              <a:t>Data Warehousing</a:t>
            </a:r>
            <a:endParaRPr b="1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143000" y="1066680"/>
            <a:ext cx="7696080" cy="5284440"/>
            <a:chOff x="1143000" y="1066680"/>
            <a:chExt cx="7696080" cy="5284440"/>
          </a:xfrm>
        </p:grpSpPr>
        <p:sp>
          <p:nvSpPr>
            <p:cNvPr id="297" name=""/>
            <p:cNvSpPr/>
            <p:nvPr/>
          </p:nvSpPr>
          <p:spPr>
            <a:xfrm>
              <a:off x="4724280" y="1066680"/>
              <a:ext cx="2438640" cy="4724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3000" y="1066680"/>
              <a:ext cx="6094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000" y="5791320"/>
              <a:ext cx="2222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ference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76720" y="59580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8320" y="59580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rehouse/Manipu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01000" y="5958000"/>
              <a:ext cx="8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1066680"/>
              <a:ext cx="6098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00400" y="1066680"/>
              <a:ext cx="1066680" cy="2133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76920" y="1219320"/>
              <a:ext cx="1009440" cy="2133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9920" y="1219320"/>
              <a:ext cx="1009440" cy="2133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mm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72400" y="1066680"/>
              <a:ext cx="1066680" cy="10670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 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76920" y="3505320"/>
              <a:ext cx="1009440" cy="2133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19920" y="3505320"/>
              <a:ext cx="1009440" cy="2133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0400" y="3657600"/>
              <a:ext cx="1066680" cy="2133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3505320"/>
              <a:ext cx="1066680" cy="2286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ly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72400" y="2209680"/>
              <a:ext cx="1066680" cy="10670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43000" y="1752480"/>
              <a:ext cx="6094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1080" y="1752480"/>
              <a:ext cx="6098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3000" y="2286000"/>
              <a:ext cx="60948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1080" y="2286000"/>
              <a:ext cx="60984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3000" y="2971800"/>
              <a:ext cx="60948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81080" y="2971800"/>
              <a:ext cx="60984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43000" y="3505320"/>
              <a:ext cx="6094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1080" y="3505320"/>
              <a:ext cx="6098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3000" y="4191120"/>
              <a:ext cx="6094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81080" y="4191120"/>
              <a:ext cx="6098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43000" y="4724280"/>
              <a:ext cx="60948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81080" y="4724280"/>
              <a:ext cx="60984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43000" y="5410080"/>
              <a:ext cx="60948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5410080"/>
              <a:ext cx="60984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43000" y="14479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6668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d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43000" y="38862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43000" y="51055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62920" y="1676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62920" y="2743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6292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33920" y="3200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67080" y="4724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90920" y="106668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9520" y="13716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520" y="1371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0920" y="22860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90920" y="350532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0920" y="472428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16T11:21:18Z</dcterms:created>
  <dc:creator/>
  <dc:description/>
  <dc:language>en-US</dc:language>
  <cp:lastModifiedBy>Roxanne R. Warniers</cp:lastModifiedBy>
  <cp:lastPrinted>1999-01-13T06:26:44Z</cp:lastPrinted>
  <dcterms:modified xsi:type="dcterms:W3CDTF">1999-01-13T06:30:17Z</dcterms:modified>
  <cp:revision>356</cp:revision>
  <dc:subject/>
  <dc:title>Northeast Region Data Warehouse Initiative</dc:title>
</cp:coreProperties>
</file>